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3.jpeg" ContentType="image/jpeg"/>
  <Override PartName="/ppt/media/image25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7.jpeg" ContentType="image/jpeg"/>
  <Override PartName="/ppt/media/image1.png" ContentType="image/png"/>
  <Override PartName="/ppt/media/image26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6640" cy="960120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44">
                <a:moveTo>
                  <a:pt x="5" y="0"/>
                </a:moveTo>
                <a:arcTo wR="5" hR="5" stAng="16200000" swAng="-5400000"/>
                <a:lnTo>
                  <a:pt x="0" y="28339"/>
                </a:lnTo>
                <a:arcTo wR="5" hR="5" stAng="10800000" swAng="-5400000"/>
                <a:lnTo>
                  <a:pt x="21595" y="283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6640" cy="960120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44">
                <a:moveTo>
                  <a:pt x="5" y="0"/>
                </a:moveTo>
                <a:arcTo wR="5" hR="5" stAng="16200000" swAng="-5400000"/>
                <a:lnTo>
                  <a:pt x="0" y="28339"/>
                </a:lnTo>
                <a:arcTo wR="5" hR="5" stAng="10800000" swAng="-5400000"/>
                <a:lnTo>
                  <a:pt x="21595" y="283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6640" cy="960120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44">
                <a:moveTo>
                  <a:pt x="5" y="0"/>
                </a:moveTo>
                <a:arcTo wR="5" hR="5" stAng="16200000" swAng="-5400000"/>
                <a:lnTo>
                  <a:pt x="0" y="28339"/>
                </a:lnTo>
                <a:arcTo wR="5" hR="5" stAng="10800000" swAng="-5400000"/>
                <a:lnTo>
                  <a:pt x="21595" y="283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94120" y="9170640"/>
            <a:ext cx="31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B35BF71-3F39-4A17-86A8-F69998328F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91800" y="4578480"/>
            <a:ext cx="53658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258560" y="728640"/>
            <a:ext cx="479268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8EC1E-C5D9-4B82-9AA6-3F9F43CB3298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0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0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2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6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7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8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2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4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6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8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2" name="PlaceHolder 1"/>
          <p:cNvSpPr>
            <a:spLocks noGrp="1"/>
          </p:cNvSpPr>
          <p:nvPr>
            <p:ph type="body"/>
          </p:nvPr>
        </p:nvSpPr>
        <p:spPr>
          <a:xfrm>
            <a:off x="992160" y="4568400"/>
            <a:ext cx="5370480" cy="43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4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F5C9B-8544-4443-9733-3B7318A64985}" type="slidenum"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06DC0-D412-4674-BF30-EF9AF4204D09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1" name="PlaceHolder 1"/>
          <p:cNvSpPr>
            <a:spLocks noGrp="1"/>
          </p:cNvSpPr>
          <p:nvPr>
            <p:ph type="body"/>
          </p:nvPr>
        </p:nvSpPr>
        <p:spPr>
          <a:xfrm>
            <a:off x="992160" y="4568400"/>
            <a:ext cx="5370480" cy="43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3" name="PlaceHolder 1"/>
          <p:cNvSpPr>
            <a:spLocks noGrp="1"/>
          </p:cNvSpPr>
          <p:nvPr>
            <p:ph type="body"/>
          </p:nvPr>
        </p:nvSpPr>
        <p:spPr>
          <a:xfrm>
            <a:off x="992160" y="4568400"/>
            <a:ext cx="5370480" cy="43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5" name="PlaceHolder 1"/>
          <p:cNvSpPr>
            <a:spLocks noGrp="1"/>
          </p:cNvSpPr>
          <p:nvPr>
            <p:ph type="body"/>
          </p:nvPr>
        </p:nvSpPr>
        <p:spPr>
          <a:xfrm>
            <a:off x="992160" y="4568400"/>
            <a:ext cx="5370480" cy="43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body"/>
          </p:nvPr>
        </p:nvSpPr>
        <p:spPr>
          <a:xfrm>
            <a:off x="992160" y="4568400"/>
            <a:ext cx="5370480" cy="43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body"/>
          </p:nvPr>
        </p:nvSpPr>
        <p:spPr>
          <a:xfrm>
            <a:off x="992160" y="4568400"/>
            <a:ext cx="5370480" cy="43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F6E78-9EEB-4C78-87E8-1901CCCE881A}" type="slidenum"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59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1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3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7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9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5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3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7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39E25-CE51-49EE-A096-9B49DCBEBDB0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0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4A6BC-71AD-4E2F-9999-ECBFA7C821E2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0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76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76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30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8908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EC8E6219-50DE-45A1-902C-BD793B5AC9C5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Interneti funktsion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8120" y="-1685880"/>
            <a:ext cx="476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8120" y="-1685880"/>
            <a:ext cx="476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raadita võrk – kombinatsi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43120" y="1371600"/>
            <a:ext cx="43138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mete tasemel täht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adio tasemel ühine e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2876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thernet paketi forma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7120" y="2571840"/>
            <a:ext cx="82296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eambl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7 octets of 10101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-of-Frame-Delimiter  1 octet of 1010101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C destination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6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C sourc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6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thertype/Length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2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yload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46-1500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C32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4 oct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Postamble                1 octet of 01111110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rame gap            960 ns (100M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5122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ntern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676520"/>
            <a:ext cx="784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ternet seob erinevaid kohtvõr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htvõrgus reeglina ethernet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(sh wifi)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ri kohtvõrkude sidumiseks antakse igale masinale unikaalne nn IP aadress: tüüpiliselt neli baiti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(193.40.254.28)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P aadress ja muu vajalik info on etherneti paketi sisu üks o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uter on masin, mis ühendatud korraga mitme kohtvõrguga ja mis otsustab, kuhu kohtvõrku pakett edasi sa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Marsru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8760" y="1071720"/>
            <a:ext cx="82278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aab teha suvalisest arvut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71840" y="1928880"/>
            <a:ext cx="3076560" cy="3076560"/>
          </a:xfrm>
          <a:prstGeom prst="rect">
            <a:avLst/>
          </a:prstGeom>
          <a:ln w="0">
            <a:noFill/>
          </a:ln>
        </p:spPr>
      </p:pic>
      <p:cxnSp>
        <p:nvCxnSpPr>
          <p:cNvPr id="160" name=""/>
          <p:cNvCxnSpPr/>
          <p:nvPr/>
        </p:nvCxnSpPr>
        <p:spPr>
          <a:xfrm>
            <a:off x="4928760" y="4357800"/>
            <a:ext cx="1786680" cy="2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>
            <a:off x="1356840" y="4357800"/>
            <a:ext cx="1861560" cy="2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78672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786800" y="364320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858000" y="48578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715080" y="3786120"/>
            <a:ext cx="928800" cy="928800"/>
          </a:xfrm>
          <a:prstGeom prst="rect">
            <a:avLst/>
          </a:prstGeom>
          <a:ln w="0">
            <a:noFill/>
          </a:ln>
        </p:spPr>
      </p:pic>
      <p:cxnSp>
        <p:nvCxnSpPr>
          <p:cNvPr id="166" name=""/>
          <p:cNvCxnSpPr/>
          <p:nvPr/>
        </p:nvCxnSpPr>
        <p:spPr>
          <a:xfrm flipH="1">
            <a:off x="6644520" y="3646080"/>
            <a:ext cx="500760" cy="39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H="1" flipV="1">
            <a:off x="7287840" y="4357440"/>
            <a:ext cx="357840" cy="2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H="1" flipV="1">
            <a:off x="6930720" y="4501800"/>
            <a:ext cx="357840" cy="110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428760" y="39290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42876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85716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500120" y="3071880"/>
            <a:ext cx="107640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73" name=""/>
          <p:cNvCxnSpPr/>
          <p:nvPr/>
        </p:nvCxnSpPr>
        <p:spPr>
          <a:xfrm flipH="1" flipV="1">
            <a:off x="715680" y="4571640"/>
            <a:ext cx="357840" cy="110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4" name=""/>
          <p:cNvCxnSpPr/>
          <p:nvPr/>
        </p:nvCxnSpPr>
        <p:spPr>
          <a:xfrm flipV="1">
            <a:off x="353880" y="3645720"/>
            <a:ext cx="573840" cy="39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V="1">
            <a:off x="713880" y="3787200"/>
            <a:ext cx="500760" cy="43092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2214720" y="5214960"/>
            <a:ext cx="4473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itstream Vera Sans"/>
              </a:rPr>
              <a:t>Saadab pakette ühest võrguliidesest te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avalis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0040" y="11430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"/>
          <p:cNvCxnSpPr/>
          <p:nvPr/>
        </p:nvCxnSpPr>
        <p:spPr>
          <a:xfrm>
            <a:off x="5000400" y="4428720"/>
            <a:ext cx="1786680" cy="39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>
            <a:off x="1428480" y="4428720"/>
            <a:ext cx="1857960" cy="39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858080" y="37148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92928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786720" y="385776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85" name=""/>
          <p:cNvCxnSpPr/>
          <p:nvPr/>
        </p:nvCxnSpPr>
        <p:spPr>
          <a:xfrm flipH="1">
            <a:off x="6716160" y="3718080"/>
            <a:ext cx="500760" cy="2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 flipH="1" flipV="1">
            <a:off x="7357680" y="4428360"/>
            <a:ext cx="357840" cy="252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 flipH="1" flipV="1">
            <a:off x="7002000" y="4571640"/>
            <a:ext cx="357840" cy="110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00040" y="400068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0004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928800" y="5000760"/>
            <a:ext cx="1076040" cy="1076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1571760" y="3143160"/>
            <a:ext cx="107604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92" name=""/>
          <p:cNvCxnSpPr/>
          <p:nvPr/>
        </p:nvCxnSpPr>
        <p:spPr>
          <a:xfrm flipH="1" flipV="1">
            <a:off x="786960" y="4641480"/>
            <a:ext cx="357840" cy="110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 flipV="1">
            <a:off x="426960" y="3717720"/>
            <a:ext cx="573840" cy="2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"/>
          <p:cNvCxnSpPr/>
          <p:nvPr/>
        </p:nvCxnSpPr>
        <p:spPr>
          <a:xfrm flipV="1">
            <a:off x="785520" y="3858480"/>
            <a:ext cx="500760" cy="43092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2286000" y="5286240"/>
            <a:ext cx="4473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itstream Vera Sans"/>
              </a:rPr>
              <a:t>Tundmatud paketid saadetakse internetti läbi eraldi liid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6" name=""/>
          <p:cNvCxnSpPr/>
          <p:nvPr/>
        </p:nvCxnSpPr>
        <p:spPr>
          <a:xfrm flipV="1">
            <a:off x="4798800" y="1904760"/>
            <a:ext cx="1600920" cy="2057760"/>
          </a:xfrm>
          <a:prstGeom prst="straightConnector1">
            <a:avLst/>
          </a:prstGeom>
          <a:ln cap="sq"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6286680" y="92880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98" name=""/>
          <p:cNvCxnSpPr/>
          <p:nvPr/>
        </p:nvCxnSpPr>
        <p:spPr>
          <a:xfrm flipH="1">
            <a:off x="6640200" y="929880"/>
            <a:ext cx="429120" cy="14364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"/>
          <p:cNvCxnSpPr/>
          <p:nvPr/>
        </p:nvCxnSpPr>
        <p:spPr>
          <a:xfrm flipH="1" flipV="1">
            <a:off x="6786360" y="1503000"/>
            <a:ext cx="429120" cy="7200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0" name=""/>
          <p:cNvCxnSpPr/>
          <p:nvPr/>
        </p:nvCxnSpPr>
        <p:spPr>
          <a:xfrm flipH="1">
            <a:off x="6786360" y="1071720"/>
            <a:ext cx="429120" cy="14328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3429000" y="3429000"/>
            <a:ext cx="1409760" cy="12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Suured infrastruktuuri marsruute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4340160" cy="3471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-533160" y="1500120"/>
            <a:ext cx="953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itstream Vera Sans"/>
              </a:rPr>
              <a:t>Väga kiired, oskavad marsruutimise keerulisemaid o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284652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209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212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216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220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224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228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232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236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240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244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172200" y="1514520"/>
            <a:ext cx="1143000" cy="247680"/>
          </a:xfrm>
          <a:prstGeom prst="line">
            <a:avLst/>
          </a:prstGeom>
          <a:ln cap="sq"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523880"/>
            <a:ext cx="205740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ine ar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ti on 4 baiti. IP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takse enamasti “inimloetavalt” nii (näide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295280"/>
            <a:ext cx="2209680" cy="67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 küljes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võrgus ole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suunab saadud teksti õiges suunas. Kuida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n “routing tab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, vaad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657600" y="3419640"/>
            <a:ext cx="9144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800600" y="2885760"/>
            <a:ext cx="30492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334120" y="1971360"/>
            <a:ext cx="457200" cy="3236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438280" y="5562720"/>
            <a:ext cx="4643640" cy="674640"/>
            <a:chOff x="2438280" y="5562720"/>
            <a:chExt cx="4643640" cy="674640"/>
          </a:xfrm>
        </p:grpSpPr>
        <p:sp>
          <p:nvSpPr>
            <p:cNvPr id="273" name=""/>
            <p:cNvSpPr/>
            <p:nvPr/>
          </p:nvSpPr>
          <p:spPr>
            <a:xfrm>
              <a:off x="2438280" y="5562720"/>
              <a:ext cx="4643640" cy="674640"/>
            </a:xfrm>
            <a:prstGeom prst="roundRect">
              <a:avLst>
                <a:gd name="adj" fmla="val 231"/>
              </a:avLst>
            </a:prstGeom>
            <a:noFill/>
            <a:ln cap="sq"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8280" y="5562720"/>
              <a:ext cx="464364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i (IP) kasutamise põhi-id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990720"/>
            <a:ext cx="784872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adres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ga saadetava tekstijupiga pannakse kaasa selle masina aadress, kuhu tekst saata tuleb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on analoogiline hariliku ümbrikug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kst on ümbriku se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mbriku peal on saaja aadress (ja tagaküljel ka saatja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4 baiti IP aadressis on nagu aadressi-read: maja, tänav, linn, ri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uuter-arvutid on nagu postkontorid ja sorteerimispunk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raadid on nagu veomasinad, mis posti kontorite vahel veav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et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harilikku ümbrikku aga ei mahu terve entsoklüpeedia kümme köidet! Mida teha? Paneme eraldi köited eri ümbrikutesse ja saadame kümme ümbrikk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ka internet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ikad tekstid lõhutakse väiksemateks juppideks (nn pakettidek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aketid saadetakse eraldi, igalühel aadress pe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itstream Vera Sans"/>
                <a:ea typeface="msgothic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7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283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286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290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294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298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302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306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310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314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318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tahab saata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M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657600" y="3419640"/>
            <a:ext cx="9144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352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355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359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363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367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371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375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379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383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387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920" y="1219320"/>
            <a:ext cx="2209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E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105520" y="3038040"/>
            <a:ext cx="30456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0"/>
            <a:ext cx="811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: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990720"/>
            <a:ext cx="426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issejuhat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htvõrk: eth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ternet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ob kohtvõr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terneti 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asmehhanismi, IP funktsioneeri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CP ja UDP: kaks täiendavat protokolli IP-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pilt kihilisest protokollindusest: ISO/OSI mu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sideprotokoll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NS funktsioneeri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26920" y="514080"/>
            <a:ext cx="7766280" cy="306360"/>
            <a:chOff x="826920" y="514080"/>
            <a:chExt cx="7766280" cy="306360"/>
          </a:xfrm>
        </p:grpSpPr>
        <p:sp>
          <p:nvSpPr>
            <p:cNvPr id="55" name=""/>
            <p:cNvSpPr/>
            <p:nvPr/>
          </p:nvSpPr>
          <p:spPr>
            <a:xfrm>
              <a:off x="826920" y="8161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593200" y="51408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21360" y="915840"/>
            <a:ext cx="3618000" cy="548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421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424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428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432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436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440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444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448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452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456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(ilmselt!) masina X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410080" y="2047680"/>
            <a:ext cx="381240" cy="2473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kaduma min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490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493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db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497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501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505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509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513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517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521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525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1219320"/>
            <a:ext cx="220968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e läheb masinani E, 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E crashib (läheb katki, programm läheb segamini, vool läheb ära vm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 alusprotokoll: IP ise ei kontrolli, kas te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õudis päral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572000" y="2886120"/>
            <a:ext cx="533520" cy="5522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crash!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33920" y="3419640"/>
            <a:ext cx="6858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560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563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db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567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571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575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579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583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587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591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595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1219320"/>
            <a:ext cx="23446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 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õhub pika  teksti kaheks paketik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h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 E-&gt;X, 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E-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ühendus rikk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leiab, et saab saata teate tei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X-ile 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 L kaud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572000" y="2886120"/>
            <a:ext cx="533520" cy="5522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733920" y="3419640"/>
            <a:ext cx="6858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5705640" y="2352240"/>
            <a:ext cx="146664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364880" y="2631960"/>
            <a:ext cx="15836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632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635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db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639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643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647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651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655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659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663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667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1219320"/>
            <a:ext cx="220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ki te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L, k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nab selle masinasse X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eksti o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kusid eri teid pidi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4572000" y="2886120"/>
            <a:ext cx="533520" cy="5522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733920" y="3419640"/>
            <a:ext cx="6858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5705640" y="2352240"/>
            <a:ext cx="146664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361280" y="2631960"/>
            <a:ext cx="1946160" cy="15130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6315120" y="2199960"/>
            <a:ext cx="247680" cy="13143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62120" y="-131760"/>
            <a:ext cx="81406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706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709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db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713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717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721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725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729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733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737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741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219320"/>
            <a:ext cx="22096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saad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uue teat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 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sinale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 esime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bi masina 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572000" y="2886120"/>
            <a:ext cx="533520" cy="5522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733920" y="3419640"/>
            <a:ext cx="6858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5705640" y="2352240"/>
            <a:ext cx="146664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362720" y="2631960"/>
            <a:ext cx="15242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kk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6315120" y="2199960"/>
            <a:ext cx="247680" cy="13143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780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783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db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787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791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795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799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803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807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811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815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04920" y="1219320"/>
            <a:ext cx="2209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otseühendus kord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E suunab os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otse masinale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ne osa võib seega jõuda kohale enne esimes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4572000" y="2886120"/>
            <a:ext cx="533520" cy="5522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3733920" y="3419640"/>
            <a:ext cx="6858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5705640" y="2352240"/>
            <a:ext cx="146664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59840" y="2631960"/>
            <a:ext cx="163152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äheb korda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334120" y="2047680"/>
            <a:ext cx="457200" cy="3236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lep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t kuidas infot saata ja sellest aru saada tul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lubab saata ainult suhteliselt väikeseid sõnumeid (64 kB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sõnumiette pannakse lisainfo (päis ehk header), mis ütleb, e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hu see sõnum saata tuleb (IP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st  sõnum tuli (saatja IP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ulga lisainfot ka v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85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1143000" y="3809880"/>
            <a:ext cx="6014880" cy="681120"/>
            <a:chOff x="1143000" y="3809880"/>
            <a:chExt cx="6014880" cy="681120"/>
          </a:xfrm>
        </p:grpSpPr>
        <p:sp>
          <p:nvSpPr>
            <p:cNvPr id="856" name=""/>
            <p:cNvSpPr/>
            <p:nvPr/>
          </p:nvSpPr>
          <p:spPr>
            <a:xfrm>
              <a:off x="1143000" y="3809880"/>
              <a:ext cx="601488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143000" y="3809880"/>
              <a:ext cx="601488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äis                     Sõnum (data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666880" y="3809880"/>
            <a:ext cx="1800" cy="68580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CP/IP pere tööhobu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FC 7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aranteerib marsruutimise, st minemise õiges suu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tteusaldusväärne - ei taga kohalejõudm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sisendpuhver on täis, siis ignoreeri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loo kanali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ga datagrammi käsitletakse sõltumat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malt (pole vaja pähe jätta!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864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501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P pakett etherneti paketi s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>
            <a:off x="1676520" y="4191120"/>
            <a:ext cx="304560" cy="1143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273480" y="4191120"/>
            <a:ext cx="4959360" cy="1143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380880" y="1704960"/>
          <a:ext cx="846792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04960"/>
                    <a:ext cx="84679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66920" y="241200"/>
            <a:ext cx="667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8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õrkude võ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1400" y="1357200"/>
            <a:ext cx="78058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2240" y="10065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78B2D-BC5B-495B-8C6A-BA282E06A5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P: liivakella kitsas ko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52280" y="1371600"/>
            <a:ext cx="4724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IP on Interneti protokollide liivakella talje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itmeid kõrgema taseme protoko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itmeid madalama taseme protoko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Ainult üks protokoll võrgu tasem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1962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4929120" y="1643040"/>
          <a:ext cx="395784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1643040"/>
                    <a:ext cx="395784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1366920" y="260280"/>
            <a:ext cx="7167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anali- ja paketipõhised protokoll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1400" y="1312920"/>
            <a:ext cx="816768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Kanalipõhised protokoll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: telefoniühend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lekug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ateful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) protokollide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sapoole loovad (virtuaalse) kan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nne andemvahetust on vaja kanal luua ja pärast sulge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sapooled teavad teise olekut kommunikatsiooniprotses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munikatsioon on “vestlu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SMTP, TCP, A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aketipõhised protokoll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: postiühend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lekut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ateless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) protokollide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uhtlus toimub paketi kau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munikatsioon on “küsimus-vastus vormi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DNS, NFS, UDP, IP, Eth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järgmised protokollid: UDP ja T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-protokolli, mis kasutavad IP-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DP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user datagram protocol). Ei kontrollita, kas info jõudis pär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CP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transfer control protocol). Toimub kontro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mbalgi puhul (TCP näitel):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885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838080" y="2895480"/>
            <a:ext cx="6015240" cy="681120"/>
            <a:chOff x="838080" y="2895480"/>
            <a:chExt cx="6015240" cy="681120"/>
          </a:xfrm>
        </p:grpSpPr>
        <p:sp>
          <p:nvSpPr>
            <p:cNvPr id="888" name=""/>
            <p:cNvSpPr/>
            <p:nvPr/>
          </p:nvSpPr>
          <p:spPr>
            <a:xfrm>
              <a:off x="838080" y="2895480"/>
              <a:ext cx="601524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38080" y="2895480"/>
              <a:ext cx="601524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 Päis                     Sisutekst (data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2133720" y="2895480"/>
            <a:ext cx="1440" cy="68580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209680" y="4876920"/>
            <a:ext cx="4643640" cy="757080"/>
            <a:chOff x="2209680" y="4876920"/>
            <a:chExt cx="4643640" cy="757080"/>
          </a:xfrm>
        </p:grpSpPr>
        <p:sp>
          <p:nvSpPr>
            <p:cNvPr id="892" name=""/>
            <p:cNvSpPr/>
            <p:nvPr/>
          </p:nvSpPr>
          <p:spPr>
            <a:xfrm>
              <a:off x="2209680" y="4876920"/>
              <a:ext cx="4643640" cy="7570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09680" y="4876920"/>
              <a:ext cx="4643640" cy="7570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 Päis            Vajalik  sisutek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581280" y="4952880"/>
            <a:ext cx="1800" cy="60984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0" y="3733920"/>
            <a:ext cx="1440" cy="91440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592360" y="3962520"/>
            <a:ext cx="434664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saldab omakorda päisega inf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UDP (User Datagram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rakenduse väljund tekitab uue datagram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taga usaldatav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grammi ehi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ähte- ja sihtport (kumbki kaks baiti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atagrammi pikkus (kaks baiti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trollsumma (kaks baiti, pole kohustuslik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dmeosa (varieeruva pikkusega hulk bait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DP paketi maksimaalpikkus on seega 64 kilobai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trollsumma vea puhul unustatakse datagra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ed: DNS, NFS, TF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980640" y="3200400"/>
            <a:ext cx="399960" cy="9907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CP(Transmission Control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ndusorienteer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aldata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oo tüü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gab voo segmentide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tes käivitab taimeri ja ootab kinnit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innitab saadud segme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trollsumma päisest ja andm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rrastab segmentide järjest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nustab dublikaa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trollib voo mah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61840" y="134604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s elab korraga palju programme ja igaüks tahab saada/saata oma pakette. Millisele programmile konkreetne pakett saata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le antakse kasut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ummerdatud TCP või UDP port (need ei ole füüsilised pistikud!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e määravad: IP aadressid, pordid, protoko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838080" y="3429000"/>
            <a:ext cx="2662200" cy="2738520"/>
            <a:chOff x="838080" y="3429000"/>
            <a:chExt cx="2662200" cy="2738520"/>
          </a:xfrm>
        </p:grpSpPr>
        <p:sp>
          <p:nvSpPr>
            <p:cNvPr id="906" name=""/>
            <p:cNvSpPr/>
            <p:nvPr/>
          </p:nvSpPr>
          <p:spPr>
            <a:xfrm>
              <a:off x="838080" y="3429000"/>
              <a:ext cx="2662200" cy="2738520"/>
            </a:xfrm>
            <a:custGeom>
              <a:avLst/>
              <a:gdLst>
                <a:gd name="textAreaLeft" fmla="*/ 360 w 2662200"/>
                <a:gd name="textAreaRight" fmla="*/ 2661840 w 2662200"/>
                <a:gd name="textAreaTop" fmla="*/ 360 h 2738520"/>
                <a:gd name="textAreaBottom" fmla="*/ 2738160 h 2738520"/>
              </a:gdLst>
              <a:ahLst/>
              <a:rect l="textAreaLeft" t="textAreaTop" r="textAreaRight" b="textAreaBottom"/>
              <a:pathLst>
                <a:path w="21600" h="22219">
                  <a:moveTo>
                    <a:pt x="12" y="0"/>
                  </a:moveTo>
                  <a:arcTo wR="12" hR="12" stAng="16200000" swAng="-5400000"/>
                  <a:lnTo>
                    <a:pt x="0" y="22207"/>
                  </a:lnTo>
                  <a:arcTo wR="12" hR="12" stAng="10800000" swAng="-5400000"/>
                  <a:lnTo>
                    <a:pt x="21588" y="22219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8080" y="3429000"/>
              <a:ext cx="2662200" cy="2738520"/>
            </a:xfrm>
            <a:custGeom>
              <a:avLst/>
              <a:gdLst>
                <a:gd name="textAreaLeft" fmla="*/ 360 w 2662200"/>
                <a:gd name="textAreaRight" fmla="*/ 2661840 w 2662200"/>
                <a:gd name="textAreaTop" fmla="*/ 360 h 2738520"/>
                <a:gd name="textAreaBottom" fmla="*/ 2738160 h 2738520"/>
              </a:gdLst>
              <a:ahLst/>
              <a:rect l="textAreaLeft" t="textAreaTop" r="textAreaRight" b="textAreaBottom"/>
              <a:pathLst>
                <a:path w="21600" h="22219">
                  <a:moveTo>
                    <a:pt x="12" y="0"/>
                  </a:moveTo>
                  <a:arcTo wR="12" hR="12" stAng="16200000" swAng="-5400000"/>
                  <a:lnTo>
                    <a:pt x="0" y="22207"/>
                  </a:lnTo>
                  <a:arcTo wR="12" hR="12" stAng="10800000" swAng="-5400000"/>
                  <a:lnTo>
                    <a:pt x="21588" y="22219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6477120" y="327672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4191120" y="3505320"/>
            <a:ext cx="299880" cy="299880"/>
            <a:chOff x="4191120" y="3505320"/>
            <a:chExt cx="299880" cy="299880"/>
          </a:xfrm>
        </p:grpSpPr>
        <p:sp>
          <p:nvSpPr>
            <p:cNvPr id="910" name=""/>
            <p:cNvSpPr/>
            <p:nvPr/>
          </p:nvSpPr>
          <p:spPr>
            <a:xfrm>
              <a:off x="4191120" y="3505320"/>
              <a:ext cx="299880" cy="299880"/>
            </a:xfrm>
            <a:prstGeom prst="ellipse">
              <a:avLst/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5400" y="3549600"/>
              <a:ext cx="209520" cy="2095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191120" y="4343400"/>
            <a:ext cx="299880" cy="376200"/>
            <a:chOff x="4191120" y="4343400"/>
            <a:chExt cx="299880" cy="376200"/>
          </a:xfrm>
        </p:grpSpPr>
        <p:sp>
          <p:nvSpPr>
            <p:cNvPr id="913" name=""/>
            <p:cNvSpPr/>
            <p:nvPr/>
          </p:nvSpPr>
          <p:spPr>
            <a:xfrm>
              <a:off x="4191120" y="4343400"/>
              <a:ext cx="299880" cy="376200"/>
            </a:xfrm>
            <a:prstGeom prst="ellipse">
              <a:avLst/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235400" y="4398840"/>
              <a:ext cx="209520" cy="263520"/>
            </a:xfrm>
            <a:custGeom>
              <a:avLst/>
              <a:gdLst>
                <a:gd name="textAreaLeft" fmla="*/ 360 w 209520"/>
                <a:gd name="textAreaRight" fmla="*/ 209160 w 209520"/>
                <a:gd name="textAreaTop" fmla="*/ 360 h 263520"/>
                <a:gd name="textAreaBottom" fmla="*/ 263160 h 263520"/>
              </a:gdLst>
              <a:ahLst/>
              <a:rect l="textAreaLeft" t="textAreaTop" r="textAreaRight" b="textAreaBottom"/>
              <a:pathLst>
                <a:path w="21600" h="27157">
                  <a:moveTo>
                    <a:pt x="161" y="0"/>
                  </a:moveTo>
                  <a:arcTo wR="161" hR="161" stAng="16200000" swAng="-5400000"/>
                  <a:lnTo>
                    <a:pt x="0" y="26996"/>
                  </a:lnTo>
                  <a:arcTo wR="161" hR="161" stAng="10800000" swAng="-5400000"/>
                  <a:lnTo>
                    <a:pt x="21439" y="27157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191120" y="5791320"/>
            <a:ext cx="299880" cy="299880"/>
            <a:chOff x="4191120" y="5791320"/>
            <a:chExt cx="299880" cy="299880"/>
          </a:xfrm>
        </p:grpSpPr>
        <p:sp>
          <p:nvSpPr>
            <p:cNvPr id="916" name=""/>
            <p:cNvSpPr/>
            <p:nvPr/>
          </p:nvSpPr>
          <p:spPr>
            <a:xfrm>
              <a:off x="4191120" y="5791320"/>
              <a:ext cx="299880" cy="299880"/>
            </a:xfrm>
            <a:prstGeom prst="ellipse">
              <a:avLst/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235400" y="5835600"/>
              <a:ext cx="209520" cy="2095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791320" y="3429000"/>
            <a:ext cx="299880" cy="299880"/>
            <a:chOff x="5791320" y="3429000"/>
            <a:chExt cx="299880" cy="299880"/>
          </a:xfrm>
        </p:grpSpPr>
        <p:sp>
          <p:nvSpPr>
            <p:cNvPr id="919" name=""/>
            <p:cNvSpPr/>
            <p:nvPr/>
          </p:nvSpPr>
          <p:spPr>
            <a:xfrm>
              <a:off x="5791320" y="3429000"/>
              <a:ext cx="299880" cy="299880"/>
            </a:xfrm>
            <a:prstGeom prst="ellipse">
              <a:avLst/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35600" y="3473280"/>
              <a:ext cx="209520" cy="211320"/>
            </a:xfrm>
            <a:custGeom>
              <a:avLst/>
              <a:gdLst>
                <a:gd name="textAreaLeft" fmla="*/ 360 w 209520"/>
                <a:gd name="textAreaRight" fmla="*/ 209160 w 209520"/>
                <a:gd name="textAreaTop" fmla="*/ 360 h 211320"/>
                <a:gd name="textAreaBottom" fmla="*/ 210960 h 211320"/>
              </a:gdLst>
              <a:ahLst/>
              <a:rect l="textAreaLeft" t="textAreaTop" r="textAreaRight" b="textAreaBottom"/>
              <a:pathLst>
                <a:path w="21600" h="21785">
                  <a:moveTo>
                    <a:pt x="161" y="0"/>
                  </a:moveTo>
                  <a:arcTo wR="161" hR="161" stAng="16200000" swAng="-5400000"/>
                  <a:lnTo>
                    <a:pt x="0" y="21624"/>
                  </a:lnTo>
                  <a:arcTo wR="161" hR="161" stAng="10800000" swAng="-5400000"/>
                  <a:lnTo>
                    <a:pt x="21439" y="21785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715000" y="4267080"/>
            <a:ext cx="299880" cy="300240"/>
            <a:chOff x="5715000" y="4267080"/>
            <a:chExt cx="299880" cy="300240"/>
          </a:xfrm>
        </p:grpSpPr>
        <p:sp>
          <p:nvSpPr>
            <p:cNvPr id="922" name=""/>
            <p:cNvSpPr/>
            <p:nvPr/>
          </p:nvSpPr>
          <p:spPr>
            <a:xfrm>
              <a:off x="5715000" y="4267080"/>
              <a:ext cx="299880" cy="300240"/>
            </a:xfrm>
            <a:prstGeom prst="ellipse">
              <a:avLst/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59280" y="4311720"/>
              <a:ext cx="211320" cy="210960"/>
            </a:xfrm>
            <a:prstGeom prst="roundRect">
              <a:avLst>
                <a:gd name="adj" fmla="val 7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5791320" y="5715000"/>
            <a:ext cx="299880" cy="299880"/>
            <a:chOff x="5791320" y="5715000"/>
            <a:chExt cx="299880" cy="299880"/>
          </a:xfrm>
        </p:grpSpPr>
        <p:sp>
          <p:nvSpPr>
            <p:cNvPr id="925" name=""/>
            <p:cNvSpPr/>
            <p:nvPr/>
          </p:nvSpPr>
          <p:spPr>
            <a:xfrm>
              <a:off x="5791320" y="5715000"/>
              <a:ext cx="299880" cy="299880"/>
            </a:xfrm>
            <a:prstGeom prst="ellipse">
              <a:avLst/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835600" y="5759280"/>
              <a:ext cx="209520" cy="211320"/>
            </a:xfrm>
            <a:custGeom>
              <a:avLst/>
              <a:gdLst>
                <a:gd name="textAreaLeft" fmla="*/ 360 w 209520"/>
                <a:gd name="textAreaRight" fmla="*/ 209160 w 209520"/>
                <a:gd name="textAreaTop" fmla="*/ 360 h 211320"/>
                <a:gd name="textAreaBottom" fmla="*/ 210960 h 211320"/>
              </a:gdLst>
              <a:ahLst/>
              <a:rect l="textAreaLeft" t="textAreaTop" r="textAreaRight" b="textAreaBottom"/>
              <a:pathLst>
                <a:path w="21600" h="21785">
                  <a:moveTo>
                    <a:pt x="161" y="0"/>
                  </a:moveTo>
                  <a:arcTo wR="161" hR="161" stAng="16200000" swAng="-5400000"/>
                  <a:lnTo>
                    <a:pt x="0" y="21624"/>
                  </a:lnTo>
                  <a:arcTo wR="161" hR="161" stAng="10800000" swAng="-5400000"/>
                  <a:lnTo>
                    <a:pt x="21439" y="21785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H="1">
            <a:off x="3495600" y="3657600"/>
            <a:ext cx="704880" cy="7632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419280" y="4572000"/>
            <a:ext cx="780840" cy="144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3495600" y="5857920"/>
            <a:ext cx="70488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095880" y="3581280"/>
            <a:ext cx="381240" cy="180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4419720"/>
            <a:ext cx="457200" cy="144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5880" y="5867280"/>
            <a:ext cx="457200" cy="180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2286000" y="3724200"/>
            <a:ext cx="1219320" cy="1238400"/>
          </a:xfrm>
          <a:prstGeom prst="line">
            <a:avLst/>
          </a:prstGeom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133720" y="4562640"/>
            <a:ext cx="1295280" cy="628560"/>
          </a:xfrm>
          <a:prstGeom prst="line">
            <a:avLst/>
          </a:prstGeom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905120" y="4943520"/>
            <a:ext cx="1752480" cy="552240"/>
          </a:xfrm>
          <a:prstGeom prst="line">
            <a:avLst/>
          </a:prstGeom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20920" y="510552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646600" y="495288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4485960" y="3657600"/>
            <a:ext cx="1314360" cy="762120"/>
          </a:xfrm>
          <a:prstGeom prst="line">
            <a:avLst/>
          </a:prstGeom>
          <a:ln cap="sq" w="25560">
            <a:solidFill>
              <a:srgbClr val="339966"/>
            </a:solidFill>
            <a:custDash>
              <a:ds d="400000" sp="300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4410000" y="3724200"/>
            <a:ext cx="1238400" cy="628560"/>
          </a:xfrm>
          <a:prstGeom prst="line">
            <a:avLst/>
          </a:prstGeom>
          <a:ln cap="sq" w="25560">
            <a:solidFill>
              <a:srgbClr val="339966"/>
            </a:solidFill>
            <a:custDash>
              <a:ds d="400000" sp="300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4562280" y="5867280"/>
            <a:ext cx="1161720" cy="76320"/>
          </a:xfrm>
          <a:prstGeom prst="line">
            <a:avLst/>
          </a:prstGeom>
          <a:ln cap="sq" w="25560">
            <a:solidFill>
              <a:srgbClr val="339966"/>
            </a:solidFill>
            <a:custDash>
              <a:ds d="400000" sp="300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12040" y="338940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400800" y="5334120"/>
            <a:ext cx="152280" cy="380880"/>
          </a:xfrm>
          <a:prstGeom prst="line">
            <a:avLst/>
          </a:prstGeom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477120" y="3581280"/>
            <a:ext cx="457200" cy="1905120"/>
          </a:xfrm>
          <a:prstGeom prst="line">
            <a:avLst/>
          </a:prstGeom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77120" y="4419720"/>
            <a:ext cx="228600" cy="761760"/>
          </a:xfrm>
          <a:prstGeom prst="line">
            <a:avLst/>
          </a:prstGeom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ide liigi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 - 1023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ldtuntud pordid, 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25       SMTP – TC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80       HTTP – TC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517     U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024 – 5000      klientprogrammide ajutised por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gt;5000                muud (mitte-üldtuntud) serve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lient - server mu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5480" y="1468440"/>
            <a:ext cx="784872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dine algori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rver ootab mingil üldteada pordil ühenduskutse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lient reserveerib dünaamilise por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lient saadab serverile ühenduskutse (koos oma pordinumbriga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rver vastab kliendile tema pordinumbr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ereeriv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i võta vastu uut kutset enne eelneva töötlem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ralleeln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äivitab iga kutse jaoks eraldi serveri ajutise pordinumbriga selle ühenduse jao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ega on mitme ajas lähestikuse kutse järel masinas käimas mitu “koopiat” ehk protsessi või threadi ühest server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jatele paistab, et need “koopiad” käivad korraga, tegelikult hoolitseb selle “kooskäimise simulatsiooni” eest opsüste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4876920" y="1752480"/>
            <a:ext cx="2133360" cy="1828800"/>
          </a:xfrm>
          <a:prstGeom prst="rect">
            <a:avLst/>
          </a:prstGeom>
          <a:solidFill>
            <a:srgbClr val="99cc00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523880" y="1752480"/>
            <a:ext cx="2133720" cy="1828800"/>
          </a:xfrm>
          <a:prstGeom prst="rect">
            <a:avLst/>
          </a:prstGeom>
          <a:solidFill>
            <a:srgbClr val="99cc00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209680" y="1219320"/>
            <a:ext cx="1371600" cy="457200"/>
          </a:xfrm>
          <a:prstGeom prst="wedgeEllipseCallout">
            <a:avLst>
              <a:gd name="adj1" fmla="val -43750"/>
              <a:gd name="adj2" fmla="val 86805"/>
            </a:avLst>
          </a:prstGeom>
          <a:solidFill>
            <a:srgbClr val="ffffcc"/>
          </a:solidFill>
          <a:ln cap="sq"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Te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O - OSI mu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990720" y="6248520"/>
            <a:ext cx="678168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867280" y="6019920"/>
            <a:ext cx="180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514600" y="6019920"/>
            <a:ext cx="144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581120" y="1828800"/>
            <a:ext cx="1828800" cy="506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752480" y="1981080"/>
            <a:ext cx="14986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Rakend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81120" y="24382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86040" y="2590920"/>
            <a:ext cx="10933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Esit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81120" y="3048120"/>
            <a:ext cx="1828800" cy="53316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886040" y="3200400"/>
            <a:ext cx="12078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Seans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581120" y="365760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56000" y="3809880"/>
            <a:ext cx="166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Transpord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81120" y="42670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60920" y="4419720"/>
            <a:ext cx="1069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Võrgu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81120" y="4876920"/>
            <a:ext cx="1828800" cy="53316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700280" y="5029200"/>
            <a:ext cx="157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hendus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581120" y="548640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731960" y="5638680"/>
            <a:ext cx="1477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Füüsil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52880" y="1828800"/>
            <a:ext cx="1828800" cy="506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124600" y="1981080"/>
            <a:ext cx="14986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Rakend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52880" y="24382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257800" y="2590920"/>
            <a:ext cx="10933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Esit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952880" y="3048120"/>
            <a:ext cx="1828800" cy="53316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57800" y="3200400"/>
            <a:ext cx="12078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Seans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952880" y="365760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027760" y="3809880"/>
            <a:ext cx="166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Transpord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952880" y="42670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332680" y="4419720"/>
            <a:ext cx="1069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Võrgu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952880" y="4876920"/>
            <a:ext cx="1828800" cy="53316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72040" y="5029200"/>
            <a:ext cx="157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hendus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952880" y="548640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104080" y="5638680"/>
            <a:ext cx="1477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Füüsil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10080" y="1219320"/>
            <a:ext cx="1371600" cy="457200"/>
          </a:xfrm>
          <a:prstGeom prst="wedgeEllipseCallout">
            <a:avLst>
              <a:gd name="adj1" fmla="val -39699"/>
              <a:gd name="adj2" fmla="val 79166"/>
            </a:avLst>
          </a:prstGeom>
          <a:solidFill>
            <a:srgbClr val="ffffcc"/>
          </a:solidFill>
          <a:ln cap="sq"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Te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I mudeli kih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1400" y="1312920"/>
            <a:ext cx="383076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500" spc="-1" strike="noStrike">
                <a:solidFill>
                  <a:srgbClr val="000000"/>
                </a:solidFill>
                <a:latin typeface="Bitstream Vera Sans"/>
              </a:rPr>
              <a:t>Protokoll (protocol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40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ri süsteemide samad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40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ihtide suhtlusvii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40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mavahe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66680" y="6172200"/>
            <a:ext cx="678204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943600" y="5943600"/>
            <a:ext cx="144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90920" y="5943600"/>
            <a:ext cx="144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76520" y="31240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05120" y="3276720"/>
            <a:ext cx="13600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le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46520" y="1312920"/>
            <a:ext cx="383076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09600" indent="-309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500" spc="-1" strike="noStrike">
                <a:solidFill>
                  <a:srgbClr val="000000"/>
                </a:solidFill>
                <a:latin typeface="Bitstream Vera Sans"/>
              </a:rPr>
              <a:t>Liides (interface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674640" indent="-2588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ma süsteemi e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4640" indent="-2588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ihtide suhtlusvii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4640" indent="-2588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mavah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705720" y="3200400"/>
            <a:ext cx="1523880" cy="144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33720" y="3657600"/>
            <a:ext cx="99036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029200" y="31240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57800" y="3276720"/>
            <a:ext cx="13600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le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86400" y="3657600"/>
            <a:ext cx="9907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505320" y="4038480"/>
            <a:ext cx="1523880" cy="457200"/>
          </a:xfrm>
          <a:prstGeom prst="leftRightArrow">
            <a:avLst>
              <a:gd name="adj1" fmla="val 50000"/>
              <a:gd name="adj2" fmla="val 66353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676520" y="3962520"/>
            <a:ext cx="1828800" cy="53316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055600" y="4114800"/>
            <a:ext cx="10706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Ming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133720" y="4495680"/>
            <a:ext cx="99036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657440" y="480060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877760" y="4952880"/>
            <a:ext cx="137376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Alu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029200" y="3962520"/>
            <a:ext cx="1828800" cy="53316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408280" y="4114800"/>
            <a:ext cx="10706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Ming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486400" y="4495680"/>
            <a:ext cx="9907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010120" y="480060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230440" y="4952880"/>
            <a:ext cx="137376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Alu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657440" y="54100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029200" y="54100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317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Protoko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809880" y="2590920"/>
            <a:ext cx="94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Li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191120" y="3809880"/>
            <a:ext cx="75960" cy="45720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419720" y="2971800"/>
            <a:ext cx="1523880" cy="83808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419720" y="2971800"/>
            <a:ext cx="1600200" cy="160020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2665440" y="2971800"/>
            <a:ext cx="1450800" cy="83808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665440" y="2971800"/>
            <a:ext cx="1527120" cy="167652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66920" y="241200"/>
            <a:ext cx="667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8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uhtmed, võrguseadmed, arvut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400" y="1357200"/>
            <a:ext cx="780588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0720" y="1303200"/>
            <a:ext cx="2700360" cy="229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0360" y="3419640"/>
            <a:ext cx="3419640" cy="3011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00720" y="5024520"/>
            <a:ext cx="2666880" cy="109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697200" y="12891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apseld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6201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O-OSI põhimõte ja internetiprotokollid: võrd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38080" y="1676520"/>
            <a:ext cx="784224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30592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1366920" y="260280"/>
            <a:ext cx="7167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anali- ja paketipõhised protokoll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71400" y="1312920"/>
            <a:ext cx="816768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Kanalipõhised protokoll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lekug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ateful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) protokollide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sapoole loovad (virtuaalse) kan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nne andemvahetust on vaja kanal luua ja pärast sulge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sapooled teavad teise olekut kommunikatsiooniprotses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munikatsioon on “vestlu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SMTP, TCP, A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aketipõhised protokoll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lekut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ateless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) protokollide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uhtlus toimub paketi kau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munikatsioon on “küsimus-vastus vormi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DNS, NFS, UDP, IP, Eth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tokollip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1442880" y="1447920"/>
          <a:ext cx="618984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1447920"/>
                    <a:ext cx="618984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hekokkuvõte protokollindusest inter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031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2971800" y="5638680"/>
            <a:ext cx="3576600" cy="452520"/>
            <a:chOff x="2971800" y="5638680"/>
            <a:chExt cx="3576600" cy="452520"/>
          </a:xfrm>
        </p:grpSpPr>
        <p:sp>
          <p:nvSpPr>
            <p:cNvPr id="1034" name=""/>
            <p:cNvSpPr/>
            <p:nvPr/>
          </p:nvSpPr>
          <p:spPr>
            <a:xfrm>
              <a:off x="2971800" y="5638680"/>
              <a:ext cx="3576600" cy="45252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1800" y="5638680"/>
              <a:ext cx="357660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2971800" y="5029200"/>
            <a:ext cx="3576600" cy="452520"/>
            <a:chOff x="2971800" y="5029200"/>
            <a:chExt cx="3576600" cy="452520"/>
          </a:xfrm>
        </p:grpSpPr>
        <p:sp>
          <p:nvSpPr>
            <p:cNvPr id="1037" name=""/>
            <p:cNvSpPr/>
            <p:nvPr/>
          </p:nvSpPr>
          <p:spPr>
            <a:xfrm>
              <a:off x="2971800" y="5029200"/>
              <a:ext cx="3576600" cy="45252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71800" y="5029200"/>
              <a:ext cx="357660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2895480" y="4038480"/>
            <a:ext cx="3576600" cy="528840"/>
            <a:chOff x="2895480" y="4038480"/>
            <a:chExt cx="3576600" cy="528840"/>
          </a:xfrm>
        </p:grpSpPr>
        <p:sp>
          <p:nvSpPr>
            <p:cNvPr id="1040" name=""/>
            <p:cNvSpPr/>
            <p:nvPr/>
          </p:nvSpPr>
          <p:spPr>
            <a:xfrm>
              <a:off x="2895480" y="4038480"/>
              <a:ext cx="3576600" cy="52884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95480" y="4038480"/>
              <a:ext cx="3576600" cy="52884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2133720" y="2666880"/>
            <a:ext cx="1595160" cy="757440"/>
            <a:chOff x="2133720" y="2666880"/>
            <a:chExt cx="1595160" cy="757440"/>
          </a:xfrm>
        </p:grpSpPr>
        <p:sp>
          <p:nvSpPr>
            <p:cNvPr id="1043" name=""/>
            <p:cNvSpPr/>
            <p:nvPr/>
          </p:nvSpPr>
          <p:spPr>
            <a:xfrm>
              <a:off x="2133720" y="2666880"/>
              <a:ext cx="1595160" cy="75744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133720" y="2666880"/>
              <a:ext cx="1595160" cy="75744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5562720" y="2743200"/>
            <a:ext cx="1595160" cy="757080"/>
            <a:chOff x="5562720" y="2743200"/>
            <a:chExt cx="1595160" cy="757080"/>
          </a:xfrm>
        </p:grpSpPr>
        <p:sp>
          <p:nvSpPr>
            <p:cNvPr id="1046" name=""/>
            <p:cNvSpPr/>
            <p:nvPr/>
          </p:nvSpPr>
          <p:spPr>
            <a:xfrm>
              <a:off x="5562720" y="2743200"/>
              <a:ext cx="1595160" cy="7570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62720" y="2743200"/>
              <a:ext cx="1595160" cy="7570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1219320" y="1600200"/>
            <a:ext cx="1062000" cy="681120"/>
            <a:chOff x="1219320" y="1600200"/>
            <a:chExt cx="1062000" cy="681120"/>
          </a:xfrm>
        </p:grpSpPr>
        <p:sp>
          <p:nvSpPr>
            <p:cNvPr id="1049" name=""/>
            <p:cNvSpPr/>
            <p:nvPr/>
          </p:nvSpPr>
          <p:spPr>
            <a:xfrm>
              <a:off x="1219320" y="1600200"/>
              <a:ext cx="106200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19320" y="1600200"/>
              <a:ext cx="106200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438280" y="1600200"/>
            <a:ext cx="1062000" cy="681120"/>
            <a:chOff x="2438280" y="1600200"/>
            <a:chExt cx="1062000" cy="681120"/>
          </a:xfrm>
        </p:grpSpPr>
        <p:sp>
          <p:nvSpPr>
            <p:cNvPr id="1052" name=""/>
            <p:cNvSpPr/>
            <p:nvPr/>
          </p:nvSpPr>
          <p:spPr>
            <a:xfrm>
              <a:off x="2438280" y="1600200"/>
              <a:ext cx="106200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38280" y="1600200"/>
              <a:ext cx="106200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3657600" y="1600200"/>
            <a:ext cx="1062000" cy="681120"/>
            <a:chOff x="3657600" y="1600200"/>
            <a:chExt cx="1062000" cy="681120"/>
          </a:xfrm>
        </p:grpSpPr>
        <p:sp>
          <p:nvSpPr>
            <p:cNvPr id="1055" name=""/>
            <p:cNvSpPr/>
            <p:nvPr/>
          </p:nvSpPr>
          <p:spPr>
            <a:xfrm>
              <a:off x="3657600" y="1600200"/>
              <a:ext cx="106200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657600" y="1600200"/>
              <a:ext cx="106200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5334120" y="1600200"/>
            <a:ext cx="1062000" cy="681120"/>
            <a:chOff x="5334120" y="1600200"/>
            <a:chExt cx="1062000" cy="681120"/>
          </a:xfrm>
        </p:grpSpPr>
        <p:sp>
          <p:nvSpPr>
            <p:cNvPr id="1058" name=""/>
            <p:cNvSpPr/>
            <p:nvPr/>
          </p:nvSpPr>
          <p:spPr>
            <a:xfrm>
              <a:off x="5334120" y="1600200"/>
              <a:ext cx="106200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34120" y="1600200"/>
              <a:ext cx="106200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6705720" y="1600200"/>
            <a:ext cx="1062000" cy="681120"/>
            <a:chOff x="6705720" y="1600200"/>
            <a:chExt cx="1062000" cy="681120"/>
          </a:xfrm>
        </p:grpSpPr>
        <p:sp>
          <p:nvSpPr>
            <p:cNvPr id="1061" name=""/>
            <p:cNvSpPr/>
            <p:nvPr/>
          </p:nvSpPr>
          <p:spPr>
            <a:xfrm>
              <a:off x="6705720" y="1600200"/>
              <a:ext cx="106200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05720" y="1600200"/>
              <a:ext cx="106200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344600" y="2379600"/>
            <a:ext cx="6411960" cy="2409840"/>
          </a:xfrm>
          <a:prstGeom prst="pie">
            <a:avLst/>
          </a:prstGeom>
          <a:noFill/>
          <a:ln cap="sq"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1066680" y="4028760"/>
            <a:ext cx="838440" cy="1314360"/>
          </a:xfrm>
          <a:prstGeom prst="line">
            <a:avLst/>
          </a:prstGeom>
          <a:ln cap="sq"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384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3190680" y="3495240"/>
            <a:ext cx="39996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410080" y="3571560"/>
            <a:ext cx="381240" cy="3236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6629400" y="2352600"/>
            <a:ext cx="380880" cy="32400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010200" y="2352600"/>
            <a:ext cx="171360" cy="32400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2124000" y="2276280"/>
            <a:ext cx="171360" cy="3236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895480" y="2352600"/>
            <a:ext cx="1800" cy="24768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3429000" y="2276280"/>
            <a:ext cx="304920" cy="3236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4648320" y="4638600"/>
            <a:ext cx="1440" cy="32400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4648320" y="5477040"/>
            <a:ext cx="1440" cy="1713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6619680" y="5334120"/>
            <a:ext cx="857160" cy="1440"/>
          </a:xfrm>
          <a:prstGeom prst="line">
            <a:avLst/>
          </a:prstGeom>
          <a:ln cap="sq"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87400" y="1157400"/>
            <a:ext cx="7292880" cy="1249200"/>
          </a:xfrm>
          <a:prstGeom prst="pie">
            <a:avLst/>
          </a:prstGeom>
          <a:noFill/>
          <a:ln cap="sq" w="25560">
            <a:solidFill>
              <a:srgbClr val="3333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09480" y="2276640"/>
            <a:ext cx="609840" cy="628560"/>
          </a:xfrm>
          <a:prstGeom prst="line">
            <a:avLst/>
          </a:prstGeom>
          <a:ln cap="sq"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0" y="2895480"/>
            <a:ext cx="182880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6934320" y="4114800"/>
            <a:ext cx="1595160" cy="1900080"/>
            <a:chOff x="6934320" y="4114800"/>
            <a:chExt cx="1595160" cy="1900080"/>
          </a:xfrm>
        </p:grpSpPr>
        <p:sp>
          <p:nvSpPr>
            <p:cNvPr id="1084" name=""/>
            <p:cNvSpPr/>
            <p:nvPr/>
          </p:nvSpPr>
          <p:spPr>
            <a:xfrm>
              <a:off x="6934320" y="4114800"/>
              <a:ext cx="1595160" cy="1900080"/>
            </a:xfrm>
            <a:custGeom>
              <a:avLst/>
              <a:gdLst>
                <a:gd name="textAreaLeft" fmla="*/ 360 w 1595160"/>
                <a:gd name="textAreaRight" fmla="*/ 1594800 w 1595160"/>
                <a:gd name="textAreaTop" fmla="*/ 360 h 1900080"/>
                <a:gd name="textAreaBottom" fmla="*/ 1899720 h 1900080"/>
              </a:gdLst>
              <a:ahLst/>
              <a:rect l="textAreaLeft" t="textAreaTop" r="textAreaRight" b="textAreaBottom"/>
              <a:pathLst>
                <a:path w="21600" h="25728">
                  <a:moveTo>
                    <a:pt x="21" y="0"/>
                  </a:moveTo>
                  <a:arcTo wR="21" hR="21" stAng="16200000" swAng="-5400000"/>
                  <a:lnTo>
                    <a:pt x="0" y="25707"/>
                  </a:lnTo>
                  <a:arcTo wR="21" hR="21" stAng="10800000" swAng="-5400000"/>
                  <a:lnTo>
                    <a:pt x="21579" y="25728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34320" y="4114800"/>
              <a:ext cx="1595160" cy="1900080"/>
            </a:xfrm>
            <a:custGeom>
              <a:avLst/>
              <a:gdLst>
                <a:gd name="textAreaLeft" fmla="*/ 360 w 1595160"/>
                <a:gd name="textAreaRight" fmla="*/ 1594800 w 1595160"/>
                <a:gd name="textAreaTop" fmla="*/ 360 h 1900080"/>
                <a:gd name="textAreaBottom" fmla="*/ 1899720 h 1900080"/>
              </a:gdLst>
              <a:ahLst/>
              <a:rect l="textAreaLeft" t="textAreaTop" r="textAreaRight" b="textAreaBottom"/>
              <a:pathLst>
                <a:path w="21600" h="25728">
                  <a:moveTo>
                    <a:pt x="21" y="0"/>
                  </a:moveTo>
                  <a:arcTo wR="21" hR="21" stAng="16200000" swAng="-5400000"/>
                  <a:lnTo>
                    <a:pt x="0" y="25707"/>
                  </a:lnTo>
                  <a:arcTo wR="21" hR="21" stAng="10800000" swAng="-5400000"/>
                  <a:lnTo>
                    <a:pt x="21579" y="25728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 flipV="1">
            <a:off x="3343320" y="2580840"/>
            <a:ext cx="3295440" cy="139068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3192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838080" y="1676520"/>
            <a:ext cx="78487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 päring on sisuliselt tekstiline käsk serverile: 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kreetne küsimus-kä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aili asukoht ja ni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okoll, mida küsija kasut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 soovi korral lisainfot, nagu küsija programmi tüüp (Mozilla, Ie, Konqueror, ..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tame telnet ühenduse masin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ijkstra.cs.ttu.e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orti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ipime sisse, seejärel tipime kaks reavahet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ET index.html HTTP/1.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38080" y="990720"/>
            <a:ext cx="78487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 päis, tühi rida, teksti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09480" y="1905120"/>
            <a:ext cx="228600" cy="2622600"/>
          </a:xfrm>
          <a:prstGeom prst="pie">
            <a:avLst/>
          </a:prstGeom>
          <a:noFill/>
          <a:ln cap="sq"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6344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380880" y="4799160"/>
            <a:ext cx="609840" cy="46800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7784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924680" y="5148360"/>
            <a:ext cx="609840" cy="1371600"/>
          </a:xfrm>
          <a:prstGeom prst="pie">
            <a:avLst/>
          </a:prstGeom>
          <a:noFill/>
          <a:ln cap="sq"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903080" y="420696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1366920" y="195120"/>
            <a:ext cx="66704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Nimed Inter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38080" y="1066680"/>
            <a:ext cx="784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amikul avalikel serveritel  on DNS ni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ww.ttu.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oogle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rveril on IP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93.40.254.28 – neli täisarvu 0-2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4294967296 unikaalset aadres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e on seotud tema füüsilise asukohaga võrg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akettide marsruutimine käib IP aadressi jär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NS nimede ja IP aadresside teisendust teeb DNS tee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Pv6 aadress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2001:0db8:85a3:0000:0000:8a2e:0370:73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340282366920938463463374607431768211456 aadres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l on tavaliselt Etherneti (MAC )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01:23:45:67:89: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nikaalne kohtvõrgu pi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õltub võrguliides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838080" y="1222200"/>
            <a:ext cx="784872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esann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ui programmile on antud masina nimi, millega ühendust võtta (näiteks www.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tu.e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, siis tuleb kõigepealt leida sellenimelise masina IP aadr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NS server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serverid, mis sisaldavad “nimi&lt;-&gt;IP aadress” tabeleid ja vastavad päringutele “anna selle nime IP aadress”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.ttu.ee   &lt;--&gt;     193.40.254.18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jutatud andmeb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DNS servereid on maailmas väga palju. Igaüks saab üles panna oma DNS serveri. DNS serverid süngivad omavahel infot oma tabeli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0"/>
            <a:ext cx="8127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ülevaade võrgunduse funktsioneerimis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70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20600" y="2932200"/>
            <a:ext cx="311220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ib kog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eg ja ootab, et kee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lle infot (mingi teksti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aks. Kui saadetaks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ta rehkendab vast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aadab vastu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87960" y="3033720"/>
            <a:ext cx="312444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aad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le 1 masina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, ootab vastu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järel vaatab, m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es on, ja vastav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guts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3680" y="1981080"/>
            <a:ext cx="1044720" cy="36828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3480" y="533412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2666880"/>
            <a:ext cx="4800600" cy="2743200"/>
          </a:xfrm>
          <a:prstGeom prst="line">
            <a:avLst/>
          </a:prstGeom>
          <a:ln cap="sq" w="25560">
            <a:solidFill>
              <a:srgbClr val="3333ff"/>
            </a:solidFill>
            <a:custDash>
              <a:ds d="100000" sp="100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09640" y="2209680"/>
            <a:ext cx="1924200" cy="1067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36800" y="1789200"/>
            <a:ext cx="246456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 või raadio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 valguska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6560" y="4724280"/>
            <a:ext cx="5459040" cy="1486080"/>
            <a:chOff x="556560" y="4724280"/>
            <a:chExt cx="5459040" cy="1486080"/>
          </a:xfrm>
        </p:grpSpPr>
        <p:sp>
          <p:nvSpPr>
            <p:cNvPr id="82" name=""/>
            <p:cNvSpPr/>
            <p:nvPr/>
          </p:nvSpPr>
          <p:spPr>
            <a:xfrm>
              <a:off x="609480" y="4724280"/>
              <a:ext cx="5310360" cy="1486080"/>
            </a:xfrm>
            <a:prstGeom prst="roundRect">
              <a:avLst>
                <a:gd name="adj" fmla="val 106"/>
              </a:avLst>
            </a:prstGeom>
            <a:noFill/>
            <a:ln cap="sq"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6560" y="4724280"/>
              <a:ext cx="5459040" cy="12736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NB!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asinates X ja Y on</a:t>
              </a: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 elektroonikatük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(võrgukaart)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is on traadi küljes ja suudab mõõ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inget traadis ja sinna ise pinget peale and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rogrammid 1 ja 2 juhivad/kuulavad võrgukaar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kaardi draiveriprogrammi abil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38080" y="1222200"/>
            <a:ext cx="784872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2012 novembris oli registreeritud ca 200 000 000 domeenin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ailmas on ca 20 miljonit DNS server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n on “DNS hiearhia” ülemiste, nn root serverite asukoha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1932120" y="2743200"/>
            <a:ext cx="5748120" cy="339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 nimede pu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1700280" y="1371600"/>
            <a:ext cx="5707080" cy="498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1112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1139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5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1166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1192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2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7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1218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8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 flipV="1">
            <a:off x="1751040" y="3672000"/>
            <a:ext cx="635040" cy="84456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2227320" y="4343400"/>
            <a:ext cx="2343240" cy="1055520"/>
            <a:chOff x="2227320" y="4343400"/>
            <a:chExt cx="2343240" cy="1055520"/>
          </a:xfrm>
        </p:grpSpPr>
        <p:sp>
          <p:nvSpPr>
            <p:cNvPr id="1244" name=""/>
            <p:cNvSpPr/>
            <p:nvPr/>
          </p:nvSpPr>
          <p:spPr>
            <a:xfrm>
              <a:off x="2227320" y="4343400"/>
              <a:ext cx="2343240" cy="105552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73200" y="4552920"/>
              <a:ext cx="199728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rvuti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nni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oma nimeserverilt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0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1251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oot 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nn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-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 mis .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d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lline vastus on tüüpi “referr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5986440" y="2457000"/>
            <a:ext cx="630360" cy="1074600"/>
            <a:chOff x="5986440" y="2457000"/>
            <a:chExt cx="630360" cy="1074600"/>
          </a:xfrm>
        </p:grpSpPr>
        <p:sp>
          <p:nvSpPr>
            <p:cNvPr id="1281" name=""/>
            <p:cNvSpPr/>
            <p:nvPr/>
          </p:nvSpPr>
          <p:spPr>
            <a:xfrm flipV="1">
              <a:off x="5986440" y="245664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5999040" y="3485520"/>
              <a:ext cx="609840" cy="45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019920" y="245844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022800" y="2466360"/>
              <a:ext cx="557280" cy="101484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989680" y="2461680"/>
              <a:ext cx="2376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586560" y="2461680"/>
              <a:ext cx="2700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86560" y="2458440"/>
              <a:ext cx="0" cy="10306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6040440" y="2530080"/>
              <a:ext cx="109440" cy="221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1760"/>
                <a:gd name="textAreaBottom" fmla="*/ 222480 h 221760"/>
              </a:gdLst>
              <a:ahLst/>
              <a:rect l="textAreaLeft" t="textAreaTop" r="textAreaRight" b="textAreaBottom"/>
              <a:pathLst>
                <a:path w="21600" h="43696">
                  <a:moveTo>
                    <a:pt x="0" y="0"/>
                  </a:moveTo>
                  <a:arcTo wR="0" hR="0" stAng="16200000" swAng="-5400000"/>
                  <a:lnTo>
                    <a:pt x="0" y="43696"/>
                  </a:lnTo>
                  <a:arcTo wR="0" hR="0" stAng="10800000" swAng="-5400000"/>
                  <a:lnTo>
                    <a:pt x="21600" y="436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6051600" y="2541960"/>
              <a:ext cx="84240" cy="199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51105">
                  <a:moveTo>
                    <a:pt x="0" y="0"/>
                  </a:moveTo>
                  <a:arcTo wR="0" hR="0" stAng="16200000" swAng="-5400000"/>
                  <a:lnTo>
                    <a:pt x="0" y="51105"/>
                  </a:lnTo>
                  <a:arcTo wR="0" hR="0" stAng="10800000" swAng="-5400000"/>
                  <a:lnTo>
                    <a:pt x="21600" y="5110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6054840" y="2680200"/>
              <a:ext cx="79200" cy="565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6054840" y="2548440"/>
              <a:ext cx="33120" cy="12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80826">
                  <a:moveTo>
                    <a:pt x="0" y="0"/>
                  </a:moveTo>
                  <a:arcTo wR="0" hR="0" stAng="16200000" swAng="-5400000"/>
                  <a:lnTo>
                    <a:pt x="0" y="80826"/>
                  </a:lnTo>
                  <a:arcTo wR="0" hR="0" stAng="10800000" swAng="-5400000"/>
                  <a:lnTo>
                    <a:pt x="21600" y="808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6107040" y="2552040"/>
              <a:ext cx="22320" cy="11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105943">
                  <a:moveTo>
                    <a:pt x="0" y="0"/>
                  </a:moveTo>
                  <a:arcTo wR="0" hR="0" stAng="16200000" swAng="-5400000"/>
                  <a:lnTo>
                    <a:pt x="0" y="105943"/>
                  </a:lnTo>
                  <a:arcTo wR="0" hR="0" stAng="10800000" swAng="-5400000"/>
                  <a:lnTo>
                    <a:pt x="21600" y="1059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062760" y="2584080"/>
              <a:ext cx="19080" cy="82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360 h 82080"/>
                <a:gd name="textAreaBottom" fmla="*/ 82800 h 82080"/>
              </a:gdLst>
              <a:ahLst/>
              <a:rect l="textAreaLeft" t="textAreaTop" r="textAreaRight" b="textAreaBottom"/>
              <a:pathLst>
                <a:path w="21600" h="91600">
                  <a:moveTo>
                    <a:pt x="0" y="0"/>
                  </a:moveTo>
                  <a:arcTo wR="0" hR="0" stAng="16200000" swAng="-5400000"/>
                  <a:lnTo>
                    <a:pt x="0" y="91600"/>
                  </a:lnTo>
                  <a:arcTo wR="0" hR="0" stAng="10800000" swAng="-5400000"/>
                  <a:lnTo>
                    <a:pt x="21600" y="91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6064200" y="2584080"/>
              <a:ext cx="17640" cy="4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6091200" y="2548440"/>
              <a:ext cx="3240" cy="124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751680">
                  <a:moveTo>
                    <a:pt x="0" y="0"/>
                  </a:moveTo>
                  <a:arcTo wR="0" hR="0" stAng="16200000" swAng="-5400000"/>
                  <a:lnTo>
                    <a:pt x="0" y="751680"/>
                  </a:lnTo>
                  <a:arcTo wR="0" hR="0" stAng="10800000" swAng="-5400000"/>
                  <a:lnTo>
                    <a:pt x="21600" y="751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6102360" y="2552040"/>
              <a:ext cx="6480" cy="11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351284">
                  <a:moveTo>
                    <a:pt x="0" y="0"/>
                  </a:moveTo>
                  <a:arcTo wR="0" hR="0" stAng="16200000" swAng="-5400000"/>
                  <a:lnTo>
                    <a:pt x="0" y="351284"/>
                  </a:lnTo>
                  <a:arcTo wR="0" hR="0" stAng="10800000" swAng="-5400000"/>
                  <a:lnTo>
                    <a:pt x="21600" y="35128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6076800" y="2688120"/>
              <a:ext cx="6480" cy="47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47160"/>
                <a:gd name="textAreaBottom" fmla="*/ 47160 h 47160"/>
              </a:gdLst>
              <a:ahLst/>
              <a:rect l="textAreaLeft" t="textAreaTop" r="textAreaRight" b="textAreaBottom"/>
              <a:pathLst>
                <a:path w="21600" h="150063">
                  <a:moveTo>
                    <a:pt x="0" y="0"/>
                  </a:moveTo>
                  <a:arcTo wR="0" hR="0" stAng="16200000" swAng="-5400000"/>
                  <a:lnTo>
                    <a:pt x="0" y="150063"/>
                  </a:lnTo>
                  <a:arcTo wR="0" hR="0" stAng="10800000" swAng="-5400000"/>
                  <a:lnTo>
                    <a:pt x="21600" y="15006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062760" y="2693520"/>
              <a:ext cx="4680" cy="43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062760" y="2714040"/>
              <a:ext cx="4680" cy="61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40440" y="2530080"/>
              <a:ext cx="112680" cy="22824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6113520" y="2689560"/>
              <a:ext cx="6120" cy="15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-360 h 15480"/>
                <a:gd name="textAreaBottom" fmla="*/ 15480 h 15480"/>
              </a:gdLst>
              <a:ahLst/>
              <a:rect l="textAreaLeft" t="textAreaTop" r="textAreaRight" b="textAreaBottom"/>
              <a:pathLst>
                <a:path w="21600" h="52800">
                  <a:moveTo>
                    <a:pt x="0" y="0"/>
                  </a:moveTo>
                  <a:arcTo wR="0" hR="0" stAng="16200000" swAng="-5400000"/>
                  <a:lnTo>
                    <a:pt x="0" y="52800"/>
                  </a:lnTo>
                  <a:arcTo wR="0" hR="0" stAng="10800000" swAng="-5400000"/>
                  <a:lnTo>
                    <a:pt x="21600" y="5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6181560" y="2538000"/>
              <a:ext cx="37944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6183360" y="25761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6183360" y="261828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6183360" y="266436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6183360" y="270792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6202440" y="2539440"/>
              <a:ext cx="341280" cy="210960"/>
              <a:chOff x="6202440" y="2539440"/>
              <a:chExt cx="341280" cy="210960"/>
            </a:xfrm>
          </p:grpSpPr>
          <p:sp>
            <p:nvSpPr>
              <p:cNvPr id="1308" name=""/>
              <p:cNvSpPr/>
              <p:nvPr/>
            </p:nvSpPr>
            <p:spPr>
              <a:xfrm>
                <a:off x="620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221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2370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25608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273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29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0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288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347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36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8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39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41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43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45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47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91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50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52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543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 flipV="1">
              <a:off x="6181560" y="2900520"/>
              <a:ext cx="379440" cy="209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6183360" y="29376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6183360" y="298044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6183360" y="302616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6183360" y="30690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3" name=""/>
            <p:cNvGrpSpPr/>
            <p:nvPr/>
          </p:nvGrpSpPr>
          <p:grpSpPr>
            <a:xfrm>
              <a:off x="6202440" y="2902680"/>
              <a:ext cx="341280" cy="209160"/>
              <a:chOff x="6202440" y="2902680"/>
              <a:chExt cx="341280" cy="209160"/>
            </a:xfrm>
          </p:grpSpPr>
          <p:sp>
            <p:nvSpPr>
              <p:cNvPr id="1334" name=""/>
              <p:cNvSpPr/>
              <p:nvPr/>
            </p:nvSpPr>
            <p:spPr>
              <a:xfrm>
                <a:off x="620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221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2370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25608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273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9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30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3288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347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36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38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39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41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43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45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47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491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50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52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543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4" name=""/>
            <p:cNvSpPr/>
            <p:nvPr/>
          </p:nvSpPr>
          <p:spPr>
            <a:xfrm flipV="1">
              <a:off x="6181560" y="3246120"/>
              <a:ext cx="379440" cy="21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6183360" y="3283920"/>
              <a:ext cx="374760" cy="10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6183360" y="332748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6183360" y="33717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6183360" y="3413880"/>
              <a:ext cx="37476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6202440" y="3248280"/>
              <a:ext cx="341280" cy="210960"/>
              <a:chOff x="6202440" y="3248280"/>
              <a:chExt cx="341280" cy="210960"/>
            </a:xfrm>
          </p:grpSpPr>
          <p:sp>
            <p:nvSpPr>
              <p:cNvPr id="1360" name=""/>
              <p:cNvSpPr/>
              <p:nvPr/>
            </p:nvSpPr>
            <p:spPr>
              <a:xfrm>
                <a:off x="620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221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2370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25608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273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29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30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3288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347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36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38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39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41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43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45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47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491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50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2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43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V="1">
              <a:off x="6040440" y="2796480"/>
              <a:ext cx="96840" cy="216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40440" y="2796480"/>
              <a:ext cx="98280" cy="2484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6040440" y="2839320"/>
              <a:ext cx="139680" cy="29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040440" y="2839320"/>
              <a:ext cx="142920" cy="34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561492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1386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1413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1439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9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1465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9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6781680" y="3581280"/>
            <a:ext cx="2148120" cy="1054080"/>
            <a:chOff x="6781680" y="3581280"/>
            <a:chExt cx="2148120" cy="1054080"/>
          </a:xfrm>
        </p:grpSpPr>
        <p:sp>
          <p:nvSpPr>
            <p:cNvPr id="1491" name=""/>
            <p:cNvSpPr/>
            <p:nvPr/>
          </p:nvSpPr>
          <p:spPr>
            <a:xfrm>
              <a:off x="6781680" y="3581280"/>
              <a:ext cx="2148120" cy="105408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007400" y="3790800"/>
              <a:ext cx="183168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a list of the com name servers.  Ask one of them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3" name=""/>
          <p:cNvSpPr/>
          <p:nvPr/>
        </p:nvSpPr>
        <p:spPr>
          <a:xfrm flipV="1">
            <a:off x="3409920" y="2587680"/>
            <a:ext cx="2452680" cy="309600"/>
          </a:xfrm>
          <a:prstGeom prst="line">
            <a:avLst/>
          </a:prstGeom>
          <a:ln cap="sq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1495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küsib .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lt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5986440" y="2457000"/>
            <a:ext cx="630360" cy="1074600"/>
            <a:chOff x="5986440" y="2457000"/>
            <a:chExt cx="630360" cy="1074600"/>
          </a:xfrm>
        </p:grpSpPr>
        <p:sp>
          <p:nvSpPr>
            <p:cNvPr id="1525" name=""/>
            <p:cNvSpPr/>
            <p:nvPr/>
          </p:nvSpPr>
          <p:spPr>
            <a:xfrm flipV="1">
              <a:off x="5986440" y="245664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5999040" y="3485520"/>
              <a:ext cx="609840" cy="45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019920" y="245844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022800" y="2466360"/>
              <a:ext cx="557280" cy="101484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989680" y="2461680"/>
              <a:ext cx="2376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86560" y="2461680"/>
              <a:ext cx="2700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586560" y="2458440"/>
              <a:ext cx="0" cy="10306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6040440" y="2530080"/>
              <a:ext cx="109440" cy="221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1760"/>
                <a:gd name="textAreaBottom" fmla="*/ 222480 h 221760"/>
              </a:gdLst>
              <a:ahLst/>
              <a:rect l="textAreaLeft" t="textAreaTop" r="textAreaRight" b="textAreaBottom"/>
              <a:pathLst>
                <a:path w="21600" h="43696">
                  <a:moveTo>
                    <a:pt x="0" y="0"/>
                  </a:moveTo>
                  <a:arcTo wR="0" hR="0" stAng="16200000" swAng="-5400000"/>
                  <a:lnTo>
                    <a:pt x="0" y="43696"/>
                  </a:lnTo>
                  <a:arcTo wR="0" hR="0" stAng="10800000" swAng="-5400000"/>
                  <a:lnTo>
                    <a:pt x="21600" y="436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6051600" y="2541960"/>
              <a:ext cx="84240" cy="199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51105">
                  <a:moveTo>
                    <a:pt x="0" y="0"/>
                  </a:moveTo>
                  <a:arcTo wR="0" hR="0" stAng="16200000" swAng="-5400000"/>
                  <a:lnTo>
                    <a:pt x="0" y="51105"/>
                  </a:lnTo>
                  <a:arcTo wR="0" hR="0" stAng="10800000" swAng="-5400000"/>
                  <a:lnTo>
                    <a:pt x="21600" y="5110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6054840" y="2680200"/>
              <a:ext cx="79200" cy="565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6054840" y="2548440"/>
              <a:ext cx="33120" cy="12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80826">
                  <a:moveTo>
                    <a:pt x="0" y="0"/>
                  </a:moveTo>
                  <a:arcTo wR="0" hR="0" stAng="16200000" swAng="-5400000"/>
                  <a:lnTo>
                    <a:pt x="0" y="80826"/>
                  </a:lnTo>
                  <a:arcTo wR="0" hR="0" stAng="10800000" swAng="-5400000"/>
                  <a:lnTo>
                    <a:pt x="21600" y="808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6107040" y="2552040"/>
              <a:ext cx="22320" cy="11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105943">
                  <a:moveTo>
                    <a:pt x="0" y="0"/>
                  </a:moveTo>
                  <a:arcTo wR="0" hR="0" stAng="16200000" swAng="-5400000"/>
                  <a:lnTo>
                    <a:pt x="0" y="105943"/>
                  </a:lnTo>
                  <a:arcTo wR="0" hR="0" stAng="10800000" swAng="-5400000"/>
                  <a:lnTo>
                    <a:pt x="21600" y="1059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6062760" y="2584080"/>
              <a:ext cx="19080" cy="82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360 h 82080"/>
                <a:gd name="textAreaBottom" fmla="*/ 82800 h 82080"/>
              </a:gdLst>
              <a:ahLst/>
              <a:rect l="textAreaLeft" t="textAreaTop" r="textAreaRight" b="textAreaBottom"/>
              <a:pathLst>
                <a:path w="21600" h="91600">
                  <a:moveTo>
                    <a:pt x="0" y="0"/>
                  </a:moveTo>
                  <a:arcTo wR="0" hR="0" stAng="16200000" swAng="-5400000"/>
                  <a:lnTo>
                    <a:pt x="0" y="91600"/>
                  </a:lnTo>
                  <a:arcTo wR="0" hR="0" stAng="10800000" swAng="-5400000"/>
                  <a:lnTo>
                    <a:pt x="21600" y="91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6064200" y="2584080"/>
              <a:ext cx="17640" cy="4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6091200" y="2548440"/>
              <a:ext cx="3240" cy="124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751680">
                  <a:moveTo>
                    <a:pt x="0" y="0"/>
                  </a:moveTo>
                  <a:arcTo wR="0" hR="0" stAng="16200000" swAng="-5400000"/>
                  <a:lnTo>
                    <a:pt x="0" y="751680"/>
                  </a:lnTo>
                  <a:arcTo wR="0" hR="0" stAng="10800000" swAng="-5400000"/>
                  <a:lnTo>
                    <a:pt x="21600" y="751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6102360" y="2552040"/>
              <a:ext cx="6480" cy="11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351284">
                  <a:moveTo>
                    <a:pt x="0" y="0"/>
                  </a:moveTo>
                  <a:arcTo wR="0" hR="0" stAng="16200000" swAng="-5400000"/>
                  <a:lnTo>
                    <a:pt x="0" y="351284"/>
                  </a:lnTo>
                  <a:arcTo wR="0" hR="0" stAng="10800000" swAng="-5400000"/>
                  <a:lnTo>
                    <a:pt x="21600" y="35128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6076800" y="2688120"/>
              <a:ext cx="6480" cy="47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47160"/>
                <a:gd name="textAreaBottom" fmla="*/ 47160 h 47160"/>
              </a:gdLst>
              <a:ahLst/>
              <a:rect l="textAreaLeft" t="textAreaTop" r="textAreaRight" b="textAreaBottom"/>
              <a:pathLst>
                <a:path w="21600" h="150063">
                  <a:moveTo>
                    <a:pt x="0" y="0"/>
                  </a:moveTo>
                  <a:arcTo wR="0" hR="0" stAng="16200000" swAng="-5400000"/>
                  <a:lnTo>
                    <a:pt x="0" y="150063"/>
                  </a:lnTo>
                  <a:arcTo wR="0" hR="0" stAng="10800000" swAng="-5400000"/>
                  <a:lnTo>
                    <a:pt x="21600" y="15006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062760" y="2693520"/>
              <a:ext cx="4680" cy="43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062760" y="2714040"/>
              <a:ext cx="4680" cy="61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40440" y="2530080"/>
              <a:ext cx="112680" cy="22824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6113520" y="2689560"/>
              <a:ext cx="6120" cy="15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-360 h 15480"/>
                <a:gd name="textAreaBottom" fmla="*/ 15480 h 15480"/>
              </a:gdLst>
              <a:ahLst/>
              <a:rect l="textAreaLeft" t="textAreaTop" r="textAreaRight" b="textAreaBottom"/>
              <a:pathLst>
                <a:path w="21600" h="52800">
                  <a:moveTo>
                    <a:pt x="0" y="0"/>
                  </a:moveTo>
                  <a:arcTo wR="0" hR="0" stAng="16200000" swAng="-5400000"/>
                  <a:lnTo>
                    <a:pt x="0" y="52800"/>
                  </a:lnTo>
                  <a:arcTo wR="0" hR="0" stAng="10800000" swAng="-5400000"/>
                  <a:lnTo>
                    <a:pt x="21600" y="5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6181560" y="2538000"/>
              <a:ext cx="37944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6183360" y="25761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183360" y="261828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6183360" y="266436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6183360" y="270792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1" name=""/>
            <p:cNvGrpSpPr/>
            <p:nvPr/>
          </p:nvGrpSpPr>
          <p:grpSpPr>
            <a:xfrm>
              <a:off x="6202440" y="2539440"/>
              <a:ext cx="341280" cy="210960"/>
              <a:chOff x="6202440" y="2539440"/>
              <a:chExt cx="341280" cy="210960"/>
            </a:xfrm>
          </p:grpSpPr>
          <p:sp>
            <p:nvSpPr>
              <p:cNvPr id="1552" name=""/>
              <p:cNvSpPr/>
              <p:nvPr/>
            </p:nvSpPr>
            <p:spPr>
              <a:xfrm>
                <a:off x="620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221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2370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25608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273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29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30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3288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347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36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38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39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41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43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45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47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491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50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52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543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2" name=""/>
            <p:cNvSpPr/>
            <p:nvPr/>
          </p:nvSpPr>
          <p:spPr>
            <a:xfrm flipV="1">
              <a:off x="6181560" y="2900520"/>
              <a:ext cx="379440" cy="209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6183360" y="29376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6183360" y="298044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6183360" y="302616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6183360" y="30690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6202440" y="2902680"/>
              <a:ext cx="341280" cy="209160"/>
              <a:chOff x="6202440" y="2902680"/>
              <a:chExt cx="341280" cy="209160"/>
            </a:xfrm>
          </p:grpSpPr>
          <p:sp>
            <p:nvSpPr>
              <p:cNvPr id="1578" name=""/>
              <p:cNvSpPr/>
              <p:nvPr/>
            </p:nvSpPr>
            <p:spPr>
              <a:xfrm>
                <a:off x="620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221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2370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25608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273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29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30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3288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347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36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38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39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41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43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45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47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491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50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52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543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8" name=""/>
            <p:cNvSpPr/>
            <p:nvPr/>
          </p:nvSpPr>
          <p:spPr>
            <a:xfrm flipV="1">
              <a:off x="6181560" y="3246120"/>
              <a:ext cx="379440" cy="21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6183360" y="3283920"/>
              <a:ext cx="374760" cy="10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6183360" y="332748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6183360" y="33717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6183360" y="3413880"/>
              <a:ext cx="37476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3" name=""/>
            <p:cNvGrpSpPr/>
            <p:nvPr/>
          </p:nvGrpSpPr>
          <p:grpSpPr>
            <a:xfrm>
              <a:off x="6202440" y="3248280"/>
              <a:ext cx="341280" cy="210960"/>
              <a:chOff x="6202440" y="3248280"/>
              <a:chExt cx="341280" cy="210960"/>
            </a:xfrm>
          </p:grpSpPr>
          <p:sp>
            <p:nvSpPr>
              <p:cNvPr id="1604" name=""/>
              <p:cNvSpPr/>
              <p:nvPr/>
            </p:nvSpPr>
            <p:spPr>
              <a:xfrm>
                <a:off x="620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221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2370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25608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273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29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30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3288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347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36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8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39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41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3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645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47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491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50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52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543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4" name=""/>
            <p:cNvSpPr/>
            <p:nvPr/>
          </p:nvSpPr>
          <p:spPr>
            <a:xfrm flipV="1">
              <a:off x="6040440" y="2796480"/>
              <a:ext cx="96840" cy="216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040440" y="2796480"/>
              <a:ext cx="98280" cy="2484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6040440" y="2839320"/>
              <a:ext cx="139680" cy="29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040440" y="2839320"/>
              <a:ext cx="142920" cy="34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8" name=""/>
          <p:cNvSpPr/>
          <p:nvPr/>
        </p:nvSpPr>
        <p:spPr>
          <a:xfrm>
            <a:off x="561492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9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1630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6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1657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2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1683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3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1709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9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322800" y="3422520"/>
            <a:ext cx="2744640" cy="9018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3406680" y="2421000"/>
            <a:ext cx="2341800" cy="1054080"/>
            <a:chOff x="3406680" y="2421000"/>
            <a:chExt cx="2341800" cy="1054080"/>
          </a:xfrm>
        </p:grpSpPr>
        <p:sp>
          <p:nvSpPr>
            <p:cNvPr id="1736" name=""/>
            <p:cNvSpPr/>
            <p:nvPr/>
          </p:nvSpPr>
          <p:spPr>
            <a:xfrm>
              <a:off x="3406680" y="2421000"/>
              <a:ext cx="2341800" cy="105408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652920" y="2522520"/>
              <a:ext cx="1998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781680" y="4114440"/>
            <a:ext cx="630360" cy="1073520"/>
            <a:chOff x="6781680" y="4114440"/>
            <a:chExt cx="630360" cy="1073520"/>
          </a:xfrm>
        </p:grpSpPr>
        <p:sp>
          <p:nvSpPr>
            <p:cNvPr id="1739" name=""/>
            <p:cNvSpPr/>
            <p:nvPr/>
          </p:nvSpPr>
          <p:spPr>
            <a:xfrm flipV="1">
              <a:off x="6781680" y="411408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V="1">
              <a:off x="6794640" y="5141880"/>
              <a:ext cx="6094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815160" y="411480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819840" y="41227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784920" y="4119480"/>
              <a:ext cx="2376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381800" y="4119480"/>
              <a:ext cx="2700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381800" y="4114800"/>
              <a:ext cx="0" cy="10288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6834240" y="4186080"/>
              <a:ext cx="109440" cy="223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4121">
                  <a:moveTo>
                    <a:pt x="0" y="0"/>
                  </a:moveTo>
                  <a:arcTo wR="0" hR="0" stAng="16200000" swAng="-5400000"/>
                  <a:lnTo>
                    <a:pt x="0" y="44121"/>
                  </a:lnTo>
                  <a:arcTo wR="0" hR="0" stAng="10800000" swAng="-5400000"/>
                  <a:lnTo>
                    <a:pt x="21600" y="441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6848640" y="419976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6850080" y="4334760"/>
              <a:ext cx="7920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6850080" y="4204440"/>
              <a:ext cx="33480" cy="127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81345">
                  <a:moveTo>
                    <a:pt x="0" y="0"/>
                  </a:moveTo>
                  <a:arcTo wR="0" hR="0" stAng="16200000" swAng="-5400000"/>
                  <a:lnTo>
                    <a:pt x="0" y="81345"/>
                  </a:lnTo>
                  <a:arcTo wR="0" hR="0" stAng="10800000" swAng="-5400000"/>
                  <a:lnTo>
                    <a:pt x="21600" y="8134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6902280" y="42076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6858000" y="424116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21600" h="90400">
                  <a:moveTo>
                    <a:pt x="0" y="0"/>
                  </a:moveTo>
                  <a:arcTo wR="0" hR="0" stAng="16200000" swAng="-5400000"/>
                  <a:lnTo>
                    <a:pt x="0" y="90400"/>
                  </a:lnTo>
                  <a:arcTo wR="0" hR="0" stAng="10800000" swAng="-5400000"/>
                  <a:lnTo>
                    <a:pt x="21600" y="90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6859440" y="4240080"/>
              <a:ext cx="19080" cy="50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6886440" y="4204440"/>
              <a:ext cx="1800" cy="127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1274400">
                  <a:moveTo>
                    <a:pt x="0" y="0"/>
                  </a:moveTo>
                  <a:arcTo wR="0" hR="0" stAng="16200000" swAng="-5400000"/>
                  <a:lnTo>
                    <a:pt x="0" y="1274400"/>
                  </a:lnTo>
                  <a:arcTo wR="0" hR="0" stAng="10800000" swAng="-5400000"/>
                  <a:lnTo>
                    <a:pt x="21600" y="127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6897600" y="4207680"/>
              <a:ext cx="6480" cy="111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352421">
                  <a:moveTo>
                    <a:pt x="0" y="0"/>
                  </a:moveTo>
                  <a:arcTo wR="0" hR="0" stAng="16200000" swAng="-5400000"/>
                  <a:lnTo>
                    <a:pt x="0" y="352421"/>
                  </a:lnTo>
                  <a:arcTo wR="0" hR="0" stAng="10800000" swAng="-5400000"/>
                  <a:lnTo>
                    <a:pt x="21600" y="3524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V="1">
              <a:off x="6872400" y="434340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58000" y="435132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858000" y="4370400"/>
              <a:ext cx="6480" cy="79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834240" y="4186080"/>
              <a:ext cx="115920" cy="22716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>
              <a:off x="6908760" y="434412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6978600" y="4195800"/>
              <a:ext cx="3808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6978600" y="42300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6978600" y="4276800"/>
              <a:ext cx="3747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6978600" y="43203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6978600" y="43617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5" name=""/>
            <p:cNvGrpSpPr/>
            <p:nvPr/>
          </p:nvGrpSpPr>
          <p:grpSpPr>
            <a:xfrm>
              <a:off x="6997680" y="4195800"/>
              <a:ext cx="343080" cy="210960"/>
              <a:chOff x="6997680" y="4195800"/>
              <a:chExt cx="343080" cy="210960"/>
            </a:xfrm>
          </p:grpSpPr>
          <p:sp>
            <p:nvSpPr>
              <p:cNvPr id="1766" name=""/>
              <p:cNvSpPr/>
              <p:nvPr/>
            </p:nvSpPr>
            <p:spPr>
              <a:xfrm>
                <a:off x="699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0178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33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0513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068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0858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10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1240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1431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1604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17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19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21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23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25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26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286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30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32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34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6" name=""/>
            <p:cNvSpPr/>
            <p:nvPr/>
          </p:nvSpPr>
          <p:spPr>
            <a:xfrm flipV="1">
              <a:off x="6978600" y="455688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6978600" y="459360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6978600" y="46378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6978600" y="4681440"/>
              <a:ext cx="3747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6978600" y="47253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91" name=""/>
            <p:cNvGrpSpPr/>
            <p:nvPr/>
          </p:nvGrpSpPr>
          <p:grpSpPr>
            <a:xfrm>
              <a:off x="6997680" y="4557600"/>
              <a:ext cx="343080" cy="211320"/>
              <a:chOff x="6997680" y="4557600"/>
              <a:chExt cx="343080" cy="211320"/>
            </a:xfrm>
          </p:grpSpPr>
          <p:sp>
            <p:nvSpPr>
              <p:cNvPr id="1792" name=""/>
              <p:cNvSpPr/>
              <p:nvPr/>
            </p:nvSpPr>
            <p:spPr>
              <a:xfrm>
                <a:off x="699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0178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033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0513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068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0858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10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1240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1431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1604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17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19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21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23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25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26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286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30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32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34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2" name=""/>
            <p:cNvSpPr/>
            <p:nvPr/>
          </p:nvSpPr>
          <p:spPr>
            <a:xfrm flipV="1">
              <a:off x="6978600" y="490140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6978600" y="49395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6978600" y="49824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6978600" y="50284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6978600" y="507132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7" name=""/>
            <p:cNvGrpSpPr/>
            <p:nvPr/>
          </p:nvGrpSpPr>
          <p:grpSpPr>
            <a:xfrm>
              <a:off x="6997680" y="4905360"/>
              <a:ext cx="343080" cy="209520"/>
              <a:chOff x="6997680" y="4905360"/>
              <a:chExt cx="343080" cy="209520"/>
            </a:xfrm>
          </p:grpSpPr>
          <p:sp>
            <p:nvSpPr>
              <p:cNvPr id="1818" name=""/>
              <p:cNvSpPr/>
              <p:nvPr/>
            </p:nvSpPr>
            <p:spPr>
              <a:xfrm>
                <a:off x="699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0178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033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0513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068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0858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10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1240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1431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1604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17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19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21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23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25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26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286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30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32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34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8" name=""/>
            <p:cNvSpPr/>
            <p:nvPr/>
          </p:nvSpPr>
          <p:spPr>
            <a:xfrm flipV="1">
              <a:off x="6834240" y="4451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834240" y="4451400"/>
              <a:ext cx="9828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6834240" y="4494240"/>
              <a:ext cx="1396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834240" y="4495680"/>
              <a:ext cx="1429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2" name="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3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1844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6781680" y="4114440"/>
            <a:ext cx="630360" cy="1073520"/>
            <a:chOff x="6781680" y="4114440"/>
            <a:chExt cx="630360" cy="1073520"/>
          </a:xfrm>
        </p:grpSpPr>
        <p:sp>
          <p:nvSpPr>
            <p:cNvPr id="1871" name=""/>
            <p:cNvSpPr/>
            <p:nvPr/>
          </p:nvSpPr>
          <p:spPr>
            <a:xfrm flipV="1">
              <a:off x="6781680" y="411408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6794640" y="5141880"/>
              <a:ext cx="6094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15160" y="411480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19840" y="41227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784920" y="4119480"/>
              <a:ext cx="2376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381800" y="4119480"/>
              <a:ext cx="2700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81800" y="4114800"/>
              <a:ext cx="0" cy="10288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6834240" y="4186080"/>
              <a:ext cx="109440" cy="223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4121">
                  <a:moveTo>
                    <a:pt x="0" y="0"/>
                  </a:moveTo>
                  <a:arcTo wR="0" hR="0" stAng="16200000" swAng="-5400000"/>
                  <a:lnTo>
                    <a:pt x="0" y="44121"/>
                  </a:lnTo>
                  <a:arcTo wR="0" hR="0" stAng="10800000" swAng="-5400000"/>
                  <a:lnTo>
                    <a:pt x="21600" y="441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6848640" y="419976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6850080" y="4334760"/>
              <a:ext cx="7920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6850080" y="4204440"/>
              <a:ext cx="33480" cy="127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81345">
                  <a:moveTo>
                    <a:pt x="0" y="0"/>
                  </a:moveTo>
                  <a:arcTo wR="0" hR="0" stAng="16200000" swAng="-5400000"/>
                  <a:lnTo>
                    <a:pt x="0" y="81345"/>
                  </a:lnTo>
                  <a:arcTo wR="0" hR="0" stAng="10800000" swAng="-5400000"/>
                  <a:lnTo>
                    <a:pt x="21600" y="8134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6902280" y="42076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6858000" y="424116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21600" h="90400">
                  <a:moveTo>
                    <a:pt x="0" y="0"/>
                  </a:moveTo>
                  <a:arcTo wR="0" hR="0" stAng="16200000" swAng="-5400000"/>
                  <a:lnTo>
                    <a:pt x="0" y="90400"/>
                  </a:lnTo>
                  <a:arcTo wR="0" hR="0" stAng="10800000" swAng="-5400000"/>
                  <a:lnTo>
                    <a:pt x="21600" y="90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6859440" y="4240080"/>
              <a:ext cx="19080" cy="50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6886440" y="4204440"/>
              <a:ext cx="1800" cy="127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1274400">
                  <a:moveTo>
                    <a:pt x="0" y="0"/>
                  </a:moveTo>
                  <a:arcTo wR="0" hR="0" stAng="16200000" swAng="-5400000"/>
                  <a:lnTo>
                    <a:pt x="0" y="1274400"/>
                  </a:lnTo>
                  <a:arcTo wR="0" hR="0" stAng="10800000" swAng="-5400000"/>
                  <a:lnTo>
                    <a:pt x="21600" y="127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6897600" y="4207680"/>
              <a:ext cx="6480" cy="111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352421">
                  <a:moveTo>
                    <a:pt x="0" y="0"/>
                  </a:moveTo>
                  <a:arcTo wR="0" hR="0" stAng="16200000" swAng="-5400000"/>
                  <a:lnTo>
                    <a:pt x="0" y="352421"/>
                  </a:lnTo>
                  <a:arcTo wR="0" hR="0" stAng="10800000" swAng="-5400000"/>
                  <a:lnTo>
                    <a:pt x="21600" y="3524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6872400" y="434340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858000" y="435132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858000" y="4370400"/>
              <a:ext cx="6480" cy="79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834240" y="4186080"/>
              <a:ext cx="115920" cy="22716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908760" y="434412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6978600" y="4195800"/>
              <a:ext cx="3808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6978600" y="42300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6978600" y="4276800"/>
              <a:ext cx="3747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6978600" y="43203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6978600" y="43617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7" name=""/>
            <p:cNvGrpSpPr/>
            <p:nvPr/>
          </p:nvGrpSpPr>
          <p:grpSpPr>
            <a:xfrm>
              <a:off x="6997680" y="4195800"/>
              <a:ext cx="343080" cy="210960"/>
              <a:chOff x="6997680" y="4195800"/>
              <a:chExt cx="343080" cy="210960"/>
            </a:xfrm>
          </p:grpSpPr>
          <p:sp>
            <p:nvSpPr>
              <p:cNvPr id="1898" name=""/>
              <p:cNvSpPr/>
              <p:nvPr/>
            </p:nvSpPr>
            <p:spPr>
              <a:xfrm>
                <a:off x="699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0178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033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0513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068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0858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10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1240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1431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604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17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19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21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23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25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26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286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30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32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34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8" name=""/>
            <p:cNvSpPr/>
            <p:nvPr/>
          </p:nvSpPr>
          <p:spPr>
            <a:xfrm flipV="1">
              <a:off x="6978600" y="455688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6978600" y="459360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6978600" y="46378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6978600" y="4681440"/>
              <a:ext cx="3747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6978600" y="47253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6997680" y="4557600"/>
              <a:ext cx="343080" cy="211320"/>
              <a:chOff x="6997680" y="4557600"/>
              <a:chExt cx="343080" cy="2113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99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178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033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0513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068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0858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10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1240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1431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1604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17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19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21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23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25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26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286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30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32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34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 flipV="1">
              <a:off x="6978600" y="490140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6978600" y="49395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6978600" y="49824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6978600" y="50284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6978600" y="507132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9" name=""/>
            <p:cNvGrpSpPr/>
            <p:nvPr/>
          </p:nvGrpSpPr>
          <p:grpSpPr>
            <a:xfrm>
              <a:off x="6997680" y="4905360"/>
              <a:ext cx="343080" cy="209520"/>
              <a:chOff x="6997680" y="4905360"/>
              <a:chExt cx="343080" cy="209520"/>
            </a:xfrm>
          </p:grpSpPr>
          <p:sp>
            <p:nvSpPr>
              <p:cNvPr id="1950" name=""/>
              <p:cNvSpPr/>
              <p:nvPr/>
            </p:nvSpPr>
            <p:spPr>
              <a:xfrm>
                <a:off x="699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0178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033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0513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068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0858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10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1240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1431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1604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17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19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21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23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25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26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286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0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32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34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70" name=""/>
            <p:cNvSpPr/>
            <p:nvPr/>
          </p:nvSpPr>
          <p:spPr>
            <a:xfrm flipV="1">
              <a:off x="6834240" y="4451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834240" y="4451400"/>
              <a:ext cx="9828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6834240" y="4494240"/>
              <a:ext cx="1396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834240" y="4495680"/>
              <a:ext cx="1429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teat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-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omeeni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 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5986440" y="2457000"/>
            <a:ext cx="630360" cy="1074600"/>
            <a:chOff x="5986440" y="2457000"/>
            <a:chExt cx="630360" cy="1074600"/>
          </a:xfrm>
        </p:grpSpPr>
        <p:sp>
          <p:nvSpPr>
            <p:cNvPr id="1979" name=""/>
            <p:cNvSpPr/>
            <p:nvPr/>
          </p:nvSpPr>
          <p:spPr>
            <a:xfrm flipV="1">
              <a:off x="5986440" y="245664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5999040" y="3485520"/>
              <a:ext cx="609840" cy="45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019920" y="245844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022800" y="2466360"/>
              <a:ext cx="557280" cy="101484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989680" y="2461680"/>
              <a:ext cx="2376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586560" y="2461680"/>
              <a:ext cx="2700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586560" y="2458440"/>
              <a:ext cx="0" cy="10306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40440" y="2530080"/>
              <a:ext cx="109440" cy="221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1760"/>
                <a:gd name="textAreaBottom" fmla="*/ 222480 h 221760"/>
              </a:gdLst>
              <a:ahLst/>
              <a:rect l="textAreaLeft" t="textAreaTop" r="textAreaRight" b="textAreaBottom"/>
              <a:pathLst>
                <a:path w="21600" h="43696">
                  <a:moveTo>
                    <a:pt x="0" y="0"/>
                  </a:moveTo>
                  <a:arcTo wR="0" hR="0" stAng="16200000" swAng="-5400000"/>
                  <a:lnTo>
                    <a:pt x="0" y="43696"/>
                  </a:lnTo>
                  <a:arcTo wR="0" hR="0" stAng="10800000" swAng="-5400000"/>
                  <a:lnTo>
                    <a:pt x="21600" y="436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6051600" y="2541960"/>
              <a:ext cx="84240" cy="199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51105">
                  <a:moveTo>
                    <a:pt x="0" y="0"/>
                  </a:moveTo>
                  <a:arcTo wR="0" hR="0" stAng="16200000" swAng="-5400000"/>
                  <a:lnTo>
                    <a:pt x="0" y="51105"/>
                  </a:lnTo>
                  <a:arcTo wR="0" hR="0" stAng="10800000" swAng="-5400000"/>
                  <a:lnTo>
                    <a:pt x="21600" y="5110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6054840" y="2680200"/>
              <a:ext cx="79200" cy="565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054840" y="2548440"/>
              <a:ext cx="33120" cy="12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80826">
                  <a:moveTo>
                    <a:pt x="0" y="0"/>
                  </a:moveTo>
                  <a:arcTo wR="0" hR="0" stAng="16200000" swAng="-5400000"/>
                  <a:lnTo>
                    <a:pt x="0" y="80826"/>
                  </a:lnTo>
                  <a:arcTo wR="0" hR="0" stAng="10800000" swAng="-5400000"/>
                  <a:lnTo>
                    <a:pt x="21600" y="808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6107040" y="2552040"/>
              <a:ext cx="22320" cy="11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105943">
                  <a:moveTo>
                    <a:pt x="0" y="0"/>
                  </a:moveTo>
                  <a:arcTo wR="0" hR="0" stAng="16200000" swAng="-5400000"/>
                  <a:lnTo>
                    <a:pt x="0" y="105943"/>
                  </a:lnTo>
                  <a:arcTo wR="0" hR="0" stAng="10800000" swAng="-5400000"/>
                  <a:lnTo>
                    <a:pt x="21600" y="1059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6062760" y="2584080"/>
              <a:ext cx="19080" cy="82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360 h 82080"/>
                <a:gd name="textAreaBottom" fmla="*/ 82800 h 82080"/>
              </a:gdLst>
              <a:ahLst/>
              <a:rect l="textAreaLeft" t="textAreaTop" r="textAreaRight" b="textAreaBottom"/>
              <a:pathLst>
                <a:path w="21600" h="91600">
                  <a:moveTo>
                    <a:pt x="0" y="0"/>
                  </a:moveTo>
                  <a:arcTo wR="0" hR="0" stAng="16200000" swAng="-5400000"/>
                  <a:lnTo>
                    <a:pt x="0" y="91600"/>
                  </a:lnTo>
                  <a:arcTo wR="0" hR="0" stAng="10800000" swAng="-5400000"/>
                  <a:lnTo>
                    <a:pt x="21600" y="91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6064200" y="2584080"/>
              <a:ext cx="17640" cy="4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6091200" y="2548440"/>
              <a:ext cx="3240" cy="124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751680">
                  <a:moveTo>
                    <a:pt x="0" y="0"/>
                  </a:moveTo>
                  <a:arcTo wR="0" hR="0" stAng="16200000" swAng="-5400000"/>
                  <a:lnTo>
                    <a:pt x="0" y="751680"/>
                  </a:lnTo>
                  <a:arcTo wR="0" hR="0" stAng="10800000" swAng="-5400000"/>
                  <a:lnTo>
                    <a:pt x="21600" y="751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6102360" y="2552040"/>
              <a:ext cx="6480" cy="11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351284">
                  <a:moveTo>
                    <a:pt x="0" y="0"/>
                  </a:moveTo>
                  <a:arcTo wR="0" hR="0" stAng="16200000" swAng="-5400000"/>
                  <a:lnTo>
                    <a:pt x="0" y="351284"/>
                  </a:lnTo>
                  <a:arcTo wR="0" hR="0" stAng="10800000" swAng="-5400000"/>
                  <a:lnTo>
                    <a:pt x="21600" y="35128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6076800" y="2688120"/>
              <a:ext cx="6480" cy="47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47160"/>
                <a:gd name="textAreaBottom" fmla="*/ 47160 h 47160"/>
              </a:gdLst>
              <a:ahLst/>
              <a:rect l="textAreaLeft" t="textAreaTop" r="textAreaRight" b="textAreaBottom"/>
              <a:pathLst>
                <a:path w="21600" h="150063">
                  <a:moveTo>
                    <a:pt x="0" y="0"/>
                  </a:moveTo>
                  <a:arcTo wR="0" hR="0" stAng="16200000" swAng="-5400000"/>
                  <a:lnTo>
                    <a:pt x="0" y="150063"/>
                  </a:lnTo>
                  <a:arcTo wR="0" hR="0" stAng="10800000" swAng="-5400000"/>
                  <a:lnTo>
                    <a:pt x="21600" y="15006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062760" y="2693520"/>
              <a:ext cx="4680" cy="43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062760" y="2714040"/>
              <a:ext cx="4680" cy="61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040440" y="2530080"/>
              <a:ext cx="112680" cy="22824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6113520" y="2689560"/>
              <a:ext cx="6120" cy="15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-360 h 15480"/>
                <a:gd name="textAreaBottom" fmla="*/ 15480 h 15480"/>
              </a:gdLst>
              <a:ahLst/>
              <a:rect l="textAreaLeft" t="textAreaTop" r="textAreaRight" b="textAreaBottom"/>
              <a:pathLst>
                <a:path w="21600" h="52800">
                  <a:moveTo>
                    <a:pt x="0" y="0"/>
                  </a:moveTo>
                  <a:arcTo wR="0" hR="0" stAng="16200000" swAng="-5400000"/>
                  <a:lnTo>
                    <a:pt x="0" y="52800"/>
                  </a:lnTo>
                  <a:arcTo wR="0" hR="0" stAng="10800000" swAng="-5400000"/>
                  <a:lnTo>
                    <a:pt x="21600" y="5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6181560" y="2538000"/>
              <a:ext cx="37944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6183360" y="25761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183360" y="261828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6183360" y="266436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6183360" y="270792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5" name=""/>
            <p:cNvGrpSpPr/>
            <p:nvPr/>
          </p:nvGrpSpPr>
          <p:grpSpPr>
            <a:xfrm>
              <a:off x="6202440" y="2539440"/>
              <a:ext cx="341280" cy="210960"/>
              <a:chOff x="6202440" y="2539440"/>
              <a:chExt cx="341280" cy="210960"/>
            </a:xfrm>
          </p:grpSpPr>
          <p:sp>
            <p:nvSpPr>
              <p:cNvPr id="2006" name=""/>
              <p:cNvSpPr/>
              <p:nvPr/>
            </p:nvSpPr>
            <p:spPr>
              <a:xfrm>
                <a:off x="620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221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62370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25608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6273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629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630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63288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6347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636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38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39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41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43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45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47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491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50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652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543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6" name=""/>
            <p:cNvSpPr/>
            <p:nvPr/>
          </p:nvSpPr>
          <p:spPr>
            <a:xfrm flipV="1">
              <a:off x="6181560" y="2900520"/>
              <a:ext cx="379440" cy="209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6183360" y="29376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6183360" y="298044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6183360" y="302616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6183360" y="30690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1" name=""/>
            <p:cNvGrpSpPr/>
            <p:nvPr/>
          </p:nvGrpSpPr>
          <p:grpSpPr>
            <a:xfrm>
              <a:off x="6202440" y="2902680"/>
              <a:ext cx="341280" cy="209160"/>
              <a:chOff x="6202440" y="2902680"/>
              <a:chExt cx="341280" cy="209160"/>
            </a:xfrm>
          </p:grpSpPr>
          <p:sp>
            <p:nvSpPr>
              <p:cNvPr id="2032" name=""/>
              <p:cNvSpPr/>
              <p:nvPr/>
            </p:nvSpPr>
            <p:spPr>
              <a:xfrm>
                <a:off x="620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6221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62370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25608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273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29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30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3288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6347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636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638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639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641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43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45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47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491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50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52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543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52" name=""/>
            <p:cNvSpPr/>
            <p:nvPr/>
          </p:nvSpPr>
          <p:spPr>
            <a:xfrm flipV="1">
              <a:off x="6181560" y="3246120"/>
              <a:ext cx="379440" cy="21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6183360" y="3283920"/>
              <a:ext cx="374760" cy="10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6183360" y="332748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6183360" y="33717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6183360" y="3413880"/>
              <a:ext cx="37476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7" name=""/>
            <p:cNvGrpSpPr/>
            <p:nvPr/>
          </p:nvGrpSpPr>
          <p:grpSpPr>
            <a:xfrm>
              <a:off x="6202440" y="3248280"/>
              <a:ext cx="341280" cy="210960"/>
              <a:chOff x="6202440" y="3248280"/>
              <a:chExt cx="341280" cy="210960"/>
            </a:xfrm>
          </p:grpSpPr>
          <p:sp>
            <p:nvSpPr>
              <p:cNvPr id="2058" name=""/>
              <p:cNvSpPr/>
              <p:nvPr/>
            </p:nvSpPr>
            <p:spPr>
              <a:xfrm>
                <a:off x="620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221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2370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25608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273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29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30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3288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347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36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38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39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41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43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45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47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491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50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52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543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78" name=""/>
            <p:cNvSpPr/>
            <p:nvPr/>
          </p:nvSpPr>
          <p:spPr>
            <a:xfrm flipV="1">
              <a:off x="6040440" y="2796480"/>
              <a:ext cx="96840" cy="216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040440" y="2796480"/>
              <a:ext cx="98280" cy="2484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V="1">
              <a:off x="6040440" y="2839320"/>
              <a:ext cx="139680" cy="29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040440" y="2839320"/>
              <a:ext cx="142920" cy="34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2" name=""/>
          <p:cNvSpPr/>
          <p:nvPr/>
        </p:nvSpPr>
        <p:spPr>
          <a:xfrm>
            <a:off x="561492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3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2084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0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2111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1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6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2137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2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2163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3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7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322800" y="3422520"/>
            <a:ext cx="2744640" cy="901800"/>
          </a:xfrm>
          <a:prstGeom prst="line">
            <a:avLst/>
          </a:prstGeom>
          <a:ln cap="sq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6934320" y="2440080"/>
            <a:ext cx="1979640" cy="1520640"/>
            <a:chOff x="6934320" y="2440080"/>
            <a:chExt cx="1979640" cy="1520640"/>
          </a:xfrm>
        </p:grpSpPr>
        <p:sp>
          <p:nvSpPr>
            <p:cNvPr id="2190" name=""/>
            <p:cNvSpPr/>
            <p:nvPr/>
          </p:nvSpPr>
          <p:spPr>
            <a:xfrm>
              <a:off x="6934320" y="2440080"/>
              <a:ext cx="1979640" cy="152064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142040" y="2587680"/>
              <a:ext cx="168912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a list of the nominum.com name servers.  Ask one of them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2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2193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6781680" y="4114440"/>
            <a:ext cx="630360" cy="1073520"/>
            <a:chOff x="6781680" y="4114440"/>
            <a:chExt cx="630360" cy="1073520"/>
          </a:xfrm>
        </p:grpSpPr>
        <p:sp>
          <p:nvSpPr>
            <p:cNvPr id="2220" name=""/>
            <p:cNvSpPr/>
            <p:nvPr/>
          </p:nvSpPr>
          <p:spPr>
            <a:xfrm flipV="1">
              <a:off x="6781680" y="411408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6794640" y="5141880"/>
              <a:ext cx="6094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815160" y="411480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819840" y="41227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784920" y="4119480"/>
              <a:ext cx="2376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381800" y="4119480"/>
              <a:ext cx="2700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381800" y="4114800"/>
              <a:ext cx="0" cy="10288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6834240" y="4186080"/>
              <a:ext cx="109440" cy="223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4121">
                  <a:moveTo>
                    <a:pt x="0" y="0"/>
                  </a:moveTo>
                  <a:arcTo wR="0" hR="0" stAng="16200000" swAng="-5400000"/>
                  <a:lnTo>
                    <a:pt x="0" y="44121"/>
                  </a:lnTo>
                  <a:arcTo wR="0" hR="0" stAng="10800000" swAng="-5400000"/>
                  <a:lnTo>
                    <a:pt x="21600" y="441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6848640" y="419976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6850080" y="4334760"/>
              <a:ext cx="7920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6850080" y="4204440"/>
              <a:ext cx="33480" cy="127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81345">
                  <a:moveTo>
                    <a:pt x="0" y="0"/>
                  </a:moveTo>
                  <a:arcTo wR="0" hR="0" stAng="16200000" swAng="-5400000"/>
                  <a:lnTo>
                    <a:pt x="0" y="81345"/>
                  </a:lnTo>
                  <a:arcTo wR="0" hR="0" stAng="10800000" swAng="-5400000"/>
                  <a:lnTo>
                    <a:pt x="21600" y="8134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6902280" y="42076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6858000" y="424116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21600" h="90400">
                  <a:moveTo>
                    <a:pt x="0" y="0"/>
                  </a:moveTo>
                  <a:arcTo wR="0" hR="0" stAng="16200000" swAng="-5400000"/>
                  <a:lnTo>
                    <a:pt x="0" y="90400"/>
                  </a:lnTo>
                  <a:arcTo wR="0" hR="0" stAng="10800000" swAng="-5400000"/>
                  <a:lnTo>
                    <a:pt x="21600" y="90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6859440" y="4240080"/>
              <a:ext cx="19080" cy="50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6886440" y="4204440"/>
              <a:ext cx="1800" cy="127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1274400">
                  <a:moveTo>
                    <a:pt x="0" y="0"/>
                  </a:moveTo>
                  <a:arcTo wR="0" hR="0" stAng="16200000" swAng="-5400000"/>
                  <a:lnTo>
                    <a:pt x="0" y="1274400"/>
                  </a:lnTo>
                  <a:arcTo wR="0" hR="0" stAng="10800000" swAng="-5400000"/>
                  <a:lnTo>
                    <a:pt x="21600" y="127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6897600" y="4207680"/>
              <a:ext cx="6480" cy="111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352421">
                  <a:moveTo>
                    <a:pt x="0" y="0"/>
                  </a:moveTo>
                  <a:arcTo wR="0" hR="0" stAng="16200000" swAng="-5400000"/>
                  <a:lnTo>
                    <a:pt x="0" y="352421"/>
                  </a:lnTo>
                  <a:arcTo wR="0" hR="0" stAng="10800000" swAng="-5400000"/>
                  <a:lnTo>
                    <a:pt x="21600" y="3524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6872400" y="434340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858000" y="435132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858000" y="4370400"/>
              <a:ext cx="6480" cy="79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834240" y="4186080"/>
              <a:ext cx="115920" cy="22716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V="1">
              <a:off x="6908760" y="434412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6978600" y="4195800"/>
              <a:ext cx="3808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6978600" y="42300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978600" y="4276800"/>
              <a:ext cx="3747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6978600" y="43203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6978600" y="43617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46" name=""/>
            <p:cNvGrpSpPr/>
            <p:nvPr/>
          </p:nvGrpSpPr>
          <p:grpSpPr>
            <a:xfrm>
              <a:off x="6997680" y="4195800"/>
              <a:ext cx="343080" cy="210960"/>
              <a:chOff x="6997680" y="4195800"/>
              <a:chExt cx="343080" cy="210960"/>
            </a:xfrm>
          </p:grpSpPr>
          <p:sp>
            <p:nvSpPr>
              <p:cNvPr id="2247" name=""/>
              <p:cNvSpPr/>
              <p:nvPr/>
            </p:nvSpPr>
            <p:spPr>
              <a:xfrm>
                <a:off x="699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0178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033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0513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068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0858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10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1240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1431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1604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17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19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21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23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25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26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286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30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32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34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7" name=""/>
            <p:cNvSpPr/>
            <p:nvPr/>
          </p:nvSpPr>
          <p:spPr>
            <a:xfrm flipV="1">
              <a:off x="6978600" y="455688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6978600" y="459360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6978600" y="46378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V="1">
              <a:off x="6978600" y="4681440"/>
              <a:ext cx="3747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6978600" y="47253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6997680" y="4557600"/>
              <a:ext cx="343080" cy="211320"/>
              <a:chOff x="6997680" y="4557600"/>
              <a:chExt cx="343080" cy="211320"/>
            </a:xfrm>
          </p:grpSpPr>
          <p:sp>
            <p:nvSpPr>
              <p:cNvPr id="2273" name=""/>
              <p:cNvSpPr/>
              <p:nvPr/>
            </p:nvSpPr>
            <p:spPr>
              <a:xfrm>
                <a:off x="699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0178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033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0513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068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0858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10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1240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1431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1604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17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19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21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23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25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26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286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30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32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34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3" name=""/>
            <p:cNvSpPr/>
            <p:nvPr/>
          </p:nvSpPr>
          <p:spPr>
            <a:xfrm flipV="1">
              <a:off x="6978600" y="490140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V="1">
              <a:off x="6978600" y="49395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6978600" y="49824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V="1">
              <a:off x="6978600" y="50284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6978600" y="507132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6997680" y="4905360"/>
              <a:ext cx="343080" cy="209520"/>
              <a:chOff x="6997680" y="4905360"/>
              <a:chExt cx="343080" cy="209520"/>
            </a:xfrm>
          </p:grpSpPr>
          <p:sp>
            <p:nvSpPr>
              <p:cNvPr id="2299" name=""/>
              <p:cNvSpPr/>
              <p:nvPr/>
            </p:nvSpPr>
            <p:spPr>
              <a:xfrm>
                <a:off x="699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0178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33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0513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68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0858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10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1240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1431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1604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17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19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1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23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25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26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286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30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32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34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9" name=""/>
            <p:cNvSpPr/>
            <p:nvPr/>
          </p:nvSpPr>
          <p:spPr>
            <a:xfrm flipV="1">
              <a:off x="6834240" y="4451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834240" y="4451400"/>
              <a:ext cx="9828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6834240" y="4494240"/>
              <a:ext cx="1396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834240" y="4495680"/>
              <a:ext cx="1429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4552920" y="3698640"/>
            <a:ext cx="628560" cy="1074960"/>
            <a:chOff x="4552920" y="3698640"/>
            <a:chExt cx="628560" cy="1074960"/>
          </a:xfrm>
        </p:grpSpPr>
        <p:sp>
          <p:nvSpPr>
            <p:cNvPr id="2324" name=""/>
            <p:cNvSpPr/>
            <p:nvPr/>
          </p:nvSpPr>
          <p:spPr>
            <a:xfrm flipV="1">
              <a:off x="4552920" y="3698280"/>
              <a:ext cx="628560" cy="10270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87">
                  <a:moveTo>
                    <a:pt x="0" y="0"/>
                  </a:moveTo>
                  <a:arcTo wR="0" hR="0" stAng="16200000" swAng="-5400000"/>
                  <a:lnTo>
                    <a:pt x="0" y="35287"/>
                  </a:lnTo>
                  <a:arcTo wR="0" hR="0" stAng="10800000" swAng="-5400000"/>
                  <a:lnTo>
                    <a:pt x="21600" y="3528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4565520" y="4727520"/>
              <a:ext cx="60804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584600" y="369900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587840" y="37069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54360" y="3703680"/>
              <a:ext cx="24120" cy="10177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153040" y="3703680"/>
              <a:ext cx="27000" cy="10177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153040" y="3699000"/>
              <a:ext cx="0" cy="103176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V="1">
              <a:off x="4606920" y="3771360"/>
              <a:ext cx="108000" cy="2235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21600" h="44635">
                  <a:moveTo>
                    <a:pt x="0" y="0"/>
                  </a:moveTo>
                  <a:arcTo wR="0" hR="0" stAng="16200000" swAng="-5400000"/>
                  <a:lnTo>
                    <a:pt x="0" y="44635"/>
                  </a:lnTo>
                  <a:arcTo wR="0" hR="0" stAng="10800000" swAng="-5400000"/>
                  <a:lnTo>
                    <a:pt x="21600" y="4463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V="1">
              <a:off x="4618080" y="3783960"/>
              <a:ext cx="84240" cy="198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737">
                  <a:moveTo>
                    <a:pt x="0" y="0"/>
                  </a:moveTo>
                  <a:arcTo wR="0" hR="0" stAng="16200000" swAng="-5400000"/>
                  <a:lnTo>
                    <a:pt x="0" y="50737"/>
                  </a:lnTo>
                  <a:arcTo wR="0" hR="0" stAng="10800000" swAng="-5400000"/>
                  <a:lnTo>
                    <a:pt x="21600" y="507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V="1">
              <a:off x="4621320" y="3920400"/>
              <a:ext cx="79200" cy="5724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4621320" y="3789360"/>
              <a:ext cx="33120" cy="125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81058">
                  <a:moveTo>
                    <a:pt x="0" y="0"/>
                  </a:moveTo>
                  <a:arcTo wR="0" hR="0" stAng="16200000" swAng="-5400000"/>
                  <a:lnTo>
                    <a:pt x="0" y="81058"/>
                  </a:lnTo>
                  <a:arcTo wR="0" hR="0" stAng="10800000" swAng="-5400000"/>
                  <a:lnTo>
                    <a:pt x="21600" y="8105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4672080" y="37918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V="1">
              <a:off x="4629240" y="382356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4629240" y="382356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4656240" y="378936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V="1">
              <a:off x="4667400" y="379188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4641840" y="3929040"/>
              <a:ext cx="6480" cy="475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1200">
                  <a:moveTo>
                    <a:pt x="0" y="0"/>
                  </a:moveTo>
                  <a:arcTo wR="0" hR="0" stAng="16200000" swAng="-5400000"/>
                  <a:lnTo>
                    <a:pt x="0" y="151200"/>
                  </a:lnTo>
                  <a:arcTo wR="0" hR="0" stAng="10800000" swAng="-5400000"/>
                  <a:lnTo>
                    <a:pt x="21600" y="151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629240" y="3933720"/>
              <a:ext cx="46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629240" y="3956040"/>
              <a:ext cx="46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603680" y="3772080"/>
              <a:ext cx="115920" cy="2268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4678200" y="392976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V="1">
              <a:off x="4748040" y="3777480"/>
              <a:ext cx="37944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V="1">
              <a:off x="4748040" y="381564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4748040" y="385848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4748040" y="390456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V="1">
              <a:off x="4748040" y="394740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0" name=""/>
            <p:cNvGrpSpPr/>
            <p:nvPr/>
          </p:nvGrpSpPr>
          <p:grpSpPr>
            <a:xfrm>
              <a:off x="4768920" y="3780000"/>
              <a:ext cx="341280" cy="210960"/>
              <a:chOff x="4768920" y="3780000"/>
              <a:chExt cx="341280" cy="210960"/>
            </a:xfrm>
          </p:grpSpPr>
          <p:sp>
            <p:nvSpPr>
              <p:cNvPr id="2351" name=""/>
              <p:cNvSpPr/>
              <p:nvPr/>
            </p:nvSpPr>
            <p:spPr>
              <a:xfrm>
                <a:off x="47689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47876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480348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8207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8384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8553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8744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348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9143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93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947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9647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9820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001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02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037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056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0738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091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11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 flipV="1">
              <a:off x="4748040" y="4141800"/>
              <a:ext cx="37944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4748040" y="4179960"/>
              <a:ext cx="3765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4748040" y="422208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V="1">
              <a:off x="4748040" y="4267080"/>
              <a:ext cx="3765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V="1">
              <a:off x="4748040" y="4309920"/>
              <a:ext cx="3765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6" name=""/>
            <p:cNvGrpSpPr/>
            <p:nvPr/>
          </p:nvGrpSpPr>
          <p:grpSpPr>
            <a:xfrm>
              <a:off x="4768920" y="4143240"/>
              <a:ext cx="341280" cy="211320"/>
              <a:chOff x="4768920" y="4143240"/>
              <a:chExt cx="341280" cy="211320"/>
            </a:xfrm>
          </p:grpSpPr>
          <p:sp>
            <p:nvSpPr>
              <p:cNvPr id="2377" name=""/>
              <p:cNvSpPr/>
              <p:nvPr/>
            </p:nvSpPr>
            <p:spPr>
              <a:xfrm>
                <a:off x="47689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7876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80348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8207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8384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8553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48744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89348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9143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93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947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9647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9820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001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02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037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056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0738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091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11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7" name=""/>
            <p:cNvSpPr/>
            <p:nvPr/>
          </p:nvSpPr>
          <p:spPr>
            <a:xfrm flipV="1">
              <a:off x="4748040" y="4487040"/>
              <a:ext cx="37944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4748040" y="452520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4748040" y="456804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V="1">
              <a:off x="4748040" y="461412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V="1">
              <a:off x="4748040" y="465696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2" name=""/>
            <p:cNvGrpSpPr/>
            <p:nvPr/>
          </p:nvGrpSpPr>
          <p:grpSpPr>
            <a:xfrm>
              <a:off x="4768920" y="4489560"/>
              <a:ext cx="341280" cy="210960"/>
              <a:chOff x="4768920" y="4489560"/>
              <a:chExt cx="341280" cy="210960"/>
            </a:xfrm>
          </p:grpSpPr>
          <p:sp>
            <p:nvSpPr>
              <p:cNvPr id="2403" name=""/>
              <p:cNvSpPr/>
              <p:nvPr/>
            </p:nvSpPr>
            <p:spPr>
              <a:xfrm>
                <a:off x="47689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47876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80348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48207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8384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8553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8744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89348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9143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93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4947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9647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9820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001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02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037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056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0738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091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1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3" name=""/>
            <p:cNvSpPr/>
            <p:nvPr/>
          </p:nvSpPr>
          <p:spPr>
            <a:xfrm flipV="1">
              <a:off x="4606920" y="403704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603680" y="4037040"/>
              <a:ext cx="9864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4606920" y="4079880"/>
              <a:ext cx="13824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603680" y="4079880"/>
              <a:ext cx="14436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7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küsi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lt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s1.sanjose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rveri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1" name=""/>
          <p:cNvGrpSpPr/>
          <p:nvPr/>
        </p:nvGrpSpPr>
        <p:grpSpPr>
          <a:xfrm>
            <a:off x="5986440" y="2457000"/>
            <a:ext cx="630360" cy="1074600"/>
            <a:chOff x="5986440" y="2457000"/>
            <a:chExt cx="630360" cy="1074600"/>
          </a:xfrm>
        </p:grpSpPr>
        <p:sp>
          <p:nvSpPr>
            <p:cNvPr id="2432" name=""/>
            <p:cNvSpPr/>
            <p:nvPr/>
          </p:nvSpPr>
          <p:spPr>
            <a:xfrm flipV="1">
              <a:off x="5986440" y="245664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5999040" y="3485520"/>
              <a:ext cx="609840" cy="45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019920" y="245844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022800" y="2466360"/>
              <a:ext cx="557280" cy="101484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989680" y="2461680"/>
              <a:ext cx="2376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86560" y="2461680"/>
              <a:ext cx="2700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586560" y="2458440"/>
              <a:ext cx="0" cy="10306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6040440" y="2530080"/>
              <a:ext cx="109440" cy="221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1760"/>
                <a:gd name="textAreaBottom" fmla="*/ 222480 h 221760"/>
              </a:gdLst>
              <a:ahLst/>
              <a:rect l="textAreaLeft" t="textAreaTop" r="textAreaRight" b="textAreaBottom"/>
              <a:pathLst>
                <a:path w="21600" h="43696">
                  <a:moveTo>
                    <a:pt x="0" y="0"/>
                  </a:moveTo>
                  <a:arcTo wR="0" hR="0" stAng="16200000" swAng="-5400000"/>
                  <a:lnTo>
                    <a:pt x="0" y="43696"/>
                  </a:lnTo>
                  <a:arcTo wR="0" hR="0" stAng="10800000" swAng="-5400000"/>
                  <a:lnTo>
                    <a:pt x="21600" y="436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6051600" y="2541960"/>
              <a:ext cx="84240" cy="199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51105">
                  <a:moveTo>
                    <a:pt x="0" y="0"/>
                  </a:moveTo>
                  <a:arcTo wR="0" hR="0" stAng="16200000" swAng="-5400000"/>
                  <a:lnTo>
                    <a:pt x="0" y="51105"/>
                  </a:lnTo>
                  <a:arcTo wR="0" hR="0" stAng="10800000" swAng="-5400000"/>
                  <a:lnTo>
                    <a:pt x="21600" y="5110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V="1">
              <a:off x="6054840" y="2680200"/>
              <a:ext cx="79200" cy="565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6054840" y="2548440"/>
              <a:ext cx="33120" cy="12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80826">
                  <a:moveTo>
                    <a:pt x="0" y="0"/>
                  </a:moveTo>
                  <a:arcTo wR="0" hR="0" stAng="16200000" swAng="-5400000"/>
                  <a:lnTo>
                    <a:pt x="0" y="80826"/>
                  </a:lnTo>
                  <a:arcTo wR="0" hR="0" stAng="10800000" swAng="-5400000"/>
                  <a:lnTo>
                    <a:pt x="21600" y="808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V="1">
              <a:off x="6107040" y="2552040"/>
              <a:ext cx="22320" cy="11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105943">
                  <a:moveTo>
                    <a:pt x="0" y="0"/>
                  </a:moveTo>
                  <a:arcTo wR="0" hR="0" stAng="16200000" swAng="-5400000"/>
                  <a:lnTo>
                    <a:pt x="0" y="105943"/>
                  </a:lnTo>
                  <a:arcTo wR="0" hR="0" stAng="10800000" swAng="-5400000"/>
                  <a:lnTo>
                    <a:pt x="21600" y="1059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6062760" y="2584080"/>
              <a:ext cx="19080" cy="82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360 h 82080"/>
                <a:gd name="textAreaBottom" fmla="*/ 82800 h 82080"/>
              </a:gdLst>
              <a:ahLst/>
              <a:rect l="textAreaLeft" t="textAreaTop" r="textAreaRight" b="textAreaBottom"/>
              <a:pathLst>
                <a:path w="21600" h="91600">
                  <a:moveTo>
                    <a:pt x="0" y="0"/>
                  </a:moveTo>
                  <a:arcTo wR="0" hR="0" stAng="16200000" swAng="-5400000"/>
                  <a:lnTo>
                    <a:pt x="0" y="91600"/>
                  </a:lnTo>
                  <a:arcTo wR="0" hR="0" stAng="10800000" swAng="-5400000"/>
                  <a:lnTo>
                    <a:pt x="21600" y="91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6064200" y="2584080"/>
              <a:ext cx="17640" cy="4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V="1">
              <a:off x="6091200" y="2548440"/>
              <a:ext cx="3240" cy="124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751680">
                  <a:moveTo>
                    <a:pt x="0" y="0"/>
                  </a:moveTo>
                  <a:arcTo wR="0" hR="0" stAng="16200000" swAng="-5400000"/>
                  <a:lnTo>
                    <a:pt x="0" y="751680"/>
                  </a:lnTo>
                  <a:arcTo wR="0" hR="0" stAng="10800000" swAng="-5400000"/>
                  <a:lnTo>
                    <a:pt x="21600" y="751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6102360" y="2552040"/>
              <a:ext cx="6480" cy="11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351284">
                  <a:moveTo>
                    <a:pt x="0" y="0"/>
                  </a:moveTo>
                  <a:arcTo wR="0" hR="0" stAng="16200000" swAng="-5400000"/>
                  <a:lnTo>
                    <a:pt x="0" y="351284"/>
                  </a:lnTo>
                  <a:arcTo wR="0" hR="0" stAng="10800000" swAng="-5400000"/>
                  <a:lnTo>
                    <a:pt x="21600" y="35128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6076800" y="2688120"/>
              <a:ext cx="6480" cy="47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47160"/>
                <a:gd name="textAreaBottom" fmla="*/ 47160 h 47160"/>
              </a:gdLst>
              <a:ahLst/>
              <a:rect l="textAreaLeft" t="textAreaTop" r="textAreaRight" b="textAreaBottom"/>
              <a:pathLst>
                <a:path w="21600" h="150063">
                  <a:moveTo>
                    <a:pt x="0" y="0"/>
                  </a:moveTo>
                  <a:arcTo wR="0" hR="0" stAng="16200000" swAng="-5400000"/>
                  <a:lnTo>
                    <a:pt x="0" y="150063"/>
                  </a:lnTo>
                  <a:arcTo wR="0" hR="0" stAng="10800000" swAng="-5400000"/>
                  <a:lnTo>
                    <a:pt x="21600" y="15006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062760" y="2693520"/>
              <a:ext cx="4680" cy="43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062760" y="2714040"/>
              <a:ext cx="4680" cy="61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040440" y="2530080"/>
              <a:ext cx="112680" cy="22824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6113520" y="2689560"/>
              <a:ext cx="6120" cy="15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-360 h 15480"/>
                <a:gd name="textAreaBottom" fmla="*/ 15480 h 15480"/>
              </a:gdLst>
              <a:ahLst/>
              <a:rect l="textAreaLeft" t="textAreaTop" r="textAreaRight" b="textAreaBottom"/>
              <a:pathLst>
                <a:path w="21600" h="52800">
                  <a:moveTo>
                    <a:pt x="0" y="0"/>
                  </a:moveTo>
                  <a:arcTo wR="0" hR="0" stAng="16200000" swAng="-5400000"/>
                  <a:lnTo>
                    <a:pt x="0" y="52800"/>
                  </a:lnTo>
                  <a:arcTo wR="0" hR="0" stAng="10800000" swAng="-5400000"/>
                  <a:lnTo>
                    <a:pt x="21600" y="5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>
              <a:off x="6181560" y="2538000"/>
              <a:ext cx="37944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6183360" y="25761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V="1">
              <a:off x="6183360" y="261828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V="1">
              <a:off x="6183360" y="266436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6183360" y="270792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8" name=""/>
            <p:cNvGrpSpPr/>
            <p:nvPr/>
          </p:nvGrpSpPr>
          <p:grpSpPr>
            <a:xfrm>
              <a:off x="6202440" y="2539440"/>
              <a:ext cx="341280" cy="210960"/>
              <a:chOff x="6202440" y="2539440"/>
              <a:chExt cx="341280" cy="210960"/>
            </a:xfrm>
          </p:grpSpPr>
          <p:sp>
            <p:nvSpPr>
              <p:cNvPr id="2459" name=""/>
              <p:cNvSpPr/>
              <p:nvPr/>
            </p:nvSpPr>
            <p:spPr>
              <a:xfrm>
                <a:off x="620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221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2370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25608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273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29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30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3288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347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36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38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39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41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43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45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47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491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50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52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543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9" name=""/>
            <p:cNvSpPr/>
            <p:nvPr/>
          </p:nvSpPr>
          <p:spPr>
            <a:xfrm flipV="1">
              <a:off x="6181560" y="2900520"/>
              <a:ext cx="379440" cy="209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6183360" y="29376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V="1">
              <a:off x="6183360" y="298044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V="1">
              <a:off x="6183360" y="302616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6183360" y="30690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4" name=""/>
            <p:cNvGrpSpPr/>
            <p:nvPr/>
          </p:nvGrpSpPr>
          <p:grpSpPr>
            <a:xfrm>
              <a:off x="6202440" y="2902680"/>
              <a:ext cx="341280" cy="209160"/>
              <a:chOff x="6202440" y="2902680"/>
              <a:chExt cx="341280" cy="209160"/>
            </a:xfrm>
          </p:grpSpPr>
          <p:sp>
            <p:nvSpPr>
              <p:cNvPr id="2485" name=""/>
              <p:cNvSpPr/>
              <p:nvPr/>
            </p:nvSpPr>
            <p:spPr>
              <a:xfrm>
                <a:off x="620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221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2370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25608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273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9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30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288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347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36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38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39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41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43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45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47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491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50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52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543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5" name=""/>
            <p:cNvSpPr/>
            <p:nvPr/>
          </p:nvSpPr>
          <p:spPr>
            <a:xfrm flipV="1">
              <a:off x="6181560" y="3246120"/>
              <a:ext cx="379440" cy="21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V="1">
              <a:off x="6183360" y="3283920"/>
              <a:ext cx="374760" cy="10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6183360" y="332748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183360" y="33717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6183360" y="3413880"/>
              <a:ext cx="37476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10" name=""/>
            <p:cNvGrpSpPr/>
            <p:nvPr/>
          </p:nvGrpSpPr>
          <p:grpSpPr>
            <a:xfrm>
              <a:off x="6202440" y="3248280"/>
              <a:ext cx="341280" cy="210960"/>
              <a:chOff x="6202440" y="3248280"/>
              <a:chExt cx="341280" cy="210960"/>
            </a:xfrm>
          </p:grpSpPr>
          <p:sp>
            <p:nvSpPr>
              <p:cNvPr id="2511" name=""/>
              <p:cNvSpPr/>
              <p:nvPr/>
            </p:nvSpPr>
            <p:spPr>
              <a:xfrm>
                <a:off x="620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221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2370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25608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273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29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30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63288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6347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36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38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39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41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43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645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47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491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50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652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6543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31" name=""/>
            <p:cNvSpPr/>
            <p:nvPr/>
          </p:nvSpPr>
          <p:spPr>
            <a:xfrm flipV="1">
              <a:off x="6040440" y="2796480"/>
              <a:ext cx="96840" cy="216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40440" y="2796480"/>
              <a:ext cx="98280" cy="2484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6040440" y="2839320"/>
              <a:ext cx="139680" cy="29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040440" y="2839320"/>
              <a:ext cx="142920" cy="34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561492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6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2537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3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2564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4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89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2590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0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5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2616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6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0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4394160" y="4768920"/>
            <a:ext cx="1780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2" name=""/>
          <p:cNvGrpSpPr/>
          <p:nvPr/>
        </p:nvGrpSpPr>
        <p:grpSpPr>
          <a:xfrm>
            <a:off x="3333600" y="2440080"/>
            <a:ext cx="2340000" cy="1054080"/>
            <a:chOff x="3333600" y="2440080"/>
            <a:chExt cx="2340000" cy="1054080"/>
          </a:xfrm>
        </p:grpSpPr>
        <p:sp>
          <p:nvSpPr>
            <p:cNvPr id="2643" name=""/>
            <p:cNvSpPr/>
            <p:nvPr/>
          </p:nvSpPr>
          <p:spPr>
            <a:xfrm>
              <a:off x="3333600" y="2440080"/>
              <a:ext cx="2340000" cy="105408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578400" y="2541600"/>
              <a:ext cx="19969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5" name=""/>
          <p:cNvSpPr/>
          <p:nvPr/>
        </p:nvSpPr>
        <p:spPr>
          <a:xfrm>
            <a:off x="3276720" y="3541680"/>
            <a:ext cx="1163520" cy="31752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6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2647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6781680" y="4114440"/>
            <a:ext cx="630360" cy="1073520"/>
            <a:chOff x="6781680" y="4114440"/>
            <a:chExt cx="630360" cy="1073520"/>
          </a:xfrm>
        </p:grpSpPr>
        <p:sp>
          <p:nvSpPr>
            <p:cNvPr id="2674" name=""/>
            <p:cNvSpPr/>
            <p:nvPr/>
          </p:nvSpPr>
          <p:spPr>
            <a:xfrm flipV="1">
              <a:off x="6781680" y="411408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6794640" y="5141880"/>
              <a:ext cx="6094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815160" y="411480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819840" y="41227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784920" y="4119480"/>
              <a:ext cx="2376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381800" y="4119480"/>
              <a:ext cx="2700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381800" y="4114800"/>
              <a:ext cx="0" cy="10288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V="1">
              <a:off x="6834240" y="4186080"/>
              <a:ext cx="109440" cy="223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4121">
                  <a:moveTo>
                    <a:pt x="0" y="0"/>
                  </a:moveTo>
                  <a:arcTo wR="0" hR="0" stAng="16200000" swAng="-5400000"/>
                  <a:lnTo>
                    <a:pt x="0" y="44121"/>
                  </a:lnTo>
                  <a:arcTo wR="0" hR="0" stAng="10800000" swAng="-5400000"/>
                  <a:lnTo>
                    <a:pt x="21600" y="441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flipV="1">
              <a:off x="6848640" y="419976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V="1">
              <a:off x="6850080" y="4334760"/>
              <a:ext cx="7920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V="1">
              <a:off x="6850080" y="4204440"/>
              <a:ext cx="33480" cy="127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81345">
                  <a:moveTo>
                    <a:pt x="0" y="0"/>
                  </a:moveTo>
                  <a:arcTo wR="0" hR="0" stAng="16200000" swAng="-5400000"/>
                  <a:lnTo>
                    <a:pt x="0" y="81345"/>
                  </a:lnTo>
                  <a:arcTo wR="0" hR="0" stAng="10800000" swAng="-5400000"/>
                  <a:lnTo>
                    <a:pt x="21600" y="8134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6902280" y="42076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6858000" y="424116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21600" h="90400">
                  <a:moveTo>
                    <a:pt x="0" y="0"/>
                  </a:moveTo>
                  <a:arcTo wR="0" hR="0" stAng="16200000" swAng="-5400000"/>
                  <a:lnTo>
                    <a:pt x="0" y="90400"/>
                  </a:lnTo>
                  <a:arcTo wR="0" hR="0" stAng="10800000" swAng="-5400000"/>
                  <a:lnTo>
                    <a:pt x="21600" y="90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6859440" y="4240080"/>
              <a:ext cx="19080" cy="50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V="1">
              <a:off x="6886440" y="4204440"/>
              <a:ext cx="1800" cy="127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1274400">
                  <a:moveTo>
                    <a:pt x="0" y="0"/>
                  </a:moveTo>
                  <a:arcTo wR="0" hR="0" stAng="16200000" swAng="-5400000"/>
                  <a:lnTo>
                    <a:pt x="0" y="1274400"/>
                  </a:lnTo>
                  <a:arcTo wR="0" hR="0" stAng="10800000" swAng="-5400000"/>
                  <a:lnTo>
                    <a:pt x="21600" y="127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6897600" y="4207680"/>
              <a:ext cx="6480" cy="111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352421">
                  <a:moveTo>
                    <a:pt x="0" y="0"/>
                  </a:moveTo>
                  <a:arcTo wR="0" hR="0" stAng="16200000" swAng="-5400000"/>
                  <a:lnTo>
                    <a:pt x="0" y="352421"/>
                  </a:lnTo>
                  <a:arcTo wR="0" hR="0" stAng="10800000" swAng="-5400000"/>
                  <a:lnTo>
                    <a:pt x="21600" y="3524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V="1">
              <a:off x="6872400" y="434340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858000" y="435132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858000" y="4370400"/>
              <a:ext cx="6480" cy="79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834240" y="4186080"/>
              <a:ext cx="115920" cy="22716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V="1">
              <a:off x="6908760" y="434412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6978600" y="4195800"/>
              <a:ext cx="3808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V="1">
              <a:off x="6978600" y="42300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V="1">
              <a:off x="6978600" y="4276800"/>
              <a:ext cx="3747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V="1">
              <a:off x="6978600" y="43203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6978600" y="43617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00" name=""/>
            <p:cNvGrpSpPr/>
            <p:nvPr/>
          </p:nvGrpSpPr>
          <p:grpSpPr>
            <a:xfrm>
              <a:off x="6997680" y="4195800"/>
              <a:ext cx="343080" cy="210960"/>
              <a:chOff x="6997680" y="4195800"/>
              <a:chExt cx="343080" cy="210960"/>
            </a:xfrm>
          </p:grpSpPr>
          <p:sp>
            <p:nvSpPr>
              <p:cNvPr id="2701" name=""/>
              <p:cNvSpPr/>
              <p:nvPr/>
            </p:nvSpPr>
            <p:spPr>
              <a:xfrm>
                <a:off x="699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0178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033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0513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068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0858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10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1240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1431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1604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17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19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21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23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25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26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286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30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32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34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1" name=""/>
            <p:cNvSpPr/>
            <p:nvPr/>
          </p:nvSpPr>
          <p:spPr>
            <a:xfrm flipV="1">
              <a:off x="6978600" y="455688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V="1">
              <a:off x="6978600" y="459360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V="1">
              <a:off x="6978600" y="46378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V="1">
              <a:off x="6978600" y="4681440"/>
              <a:ext cx="3747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V="1">
              <a:off x="6978600" y="47253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6" name=""/>
            <p:cNvGrpSpPr/>
            <p:nvPr/>
          </p:nvGrpSpPr>
          <p:grpSpPr>
            <a:xfrm>
              <a:off x="6997680" y="4557600"/>
              <a:ext cx="343080" cy="211320"/>
              <a:chOff x="6997680" y="4557600"/>
              <a:chExt cx="343080" cy="211320"/>
            </a:xfrm>
          </p:grpSpPr>
          <p:sp>
            <p:nvSpPr>
              <p:cNvPr id="2727" name=""/>
              <p:cNvSpPr/>
              <p:nvPr/>
            </p:nvSpPr>
            <p:spPr>
              <a:xfrm>
                <a:off x="699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0178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033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0513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068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0858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10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1240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1431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1604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17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19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21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23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25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26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286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30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32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34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7" name=""/>
            <p:cNvSpPr/>
            <p:nvPr/>
          </p:nvSpPr>
          <p:spPr>
            <a:xfrm flipV="1">
              <a:off x="6978600" y="490140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V="1">
              <a:off x="6978600" y="49395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6978600" y="49824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V="1">
              <a:off x="6978600" y="50284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V="1">
              <a:off x="6978600" y="507132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2" name=""/>
            <p:cNvGrpSpPr/>
            <p:nvPr/>
          </p:nvGrpSpPr>
          <p:grpSpPr>
            <a:xfrm>
              <a:off x="6997680" y="4905360"/>
              <a:ext cx="343080" cy="209520"/>
              <a:chOff x="6997680" y="4905360"/>
              <a:chExt cx="343080" cy="209520"/>
            </a:xfrm>
          </p:grpSpPr>
          <p:sp>
            <p:nvSpPr>
              <p:cNvPr id="2753" name=""/>
              <p:cNvSpPr/>
              <p:nvPr/>
            </p:nvSpPr>
            <p:spPr>
              <a:xfrm>
                <a:off x="699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0178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033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0513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068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0858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10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1240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1431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1604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17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19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21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23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25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26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286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30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32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34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3" name=""/>
            <p:cNvSpPr/>
            <p:nvPr/>
          </p:nvSpPr>
          <p:spPr>
            <a:xfrm flipV="1">
              <a:off x="6834240" y="4451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834240" y="4451400"/>
              <a:ext cx="9828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V="1">
              <a:off x="6834240" y="4494240"/>
              <a:ext cx="1396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834240" y="4495680"/>
              <a:ext cx="1429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7" name=""/>
          <p:cNvGrpSpPr/>
          <p:nvPr/>
        </p:nvGrpSpPr>
        <p:grpSpPr>
          <a:xfrm>
            <a:off x="4552920" y="3698640"/>
            <a:ext cx="628560" cy="1074960"/>
            <a:chOff x="4552920" y="3698640"/>
            <a:chExt cx="628560" cy="1074960"/>
          </a:xfrm>
        </p:grpSpPr>
        <p:sp>
          <p:nvSpPr>
            <p:cNvPr id="2778" name=""/>
            <p:cNvSpPr/>
            <p:nvPr/>
          </p:nvSpPr>
          <p:spPr>
            <a:xfrm flipV="1">
              <a:off x="4552920" y="3698280"/>
              <a:ext cx="628560" cy="10270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87">
                  <a:moveTo>
                    <a:pt x="0" y="0"/>
                  </a:moveTo>
                  <a:arcTo wR="0" hR="0" stAng="16200000" swAng="-5400000"/>
                  <a:lnTo>
                    <a:pt x="0" y="35287"/>
                  </a:lnTo>
                  <a:arcTo wR="0" hR="0" stAng="10800000" swAng="-5400000"/>
                  <a:lnTo>
                    <a:pt x="21600" y="3528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4565520" y="4727520"/>
              <a:ext cx="60804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584600" y="369900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587840" y="37069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554360" y="3703680"/>
              <a:ext cx="24120" cy="10177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153040" y="3703680"/>
              <a:ext cx="27000" cy="10177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153040" y="3699000"/>
              <a:ext cx="0" cy="103176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4606920" y="3771360"/>
              <a:ext cx="108000" cy="2235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21600" h="44635">
                  <a:moveTo>
                    <a:pt x="0" y="0"/>
                  </a:moveTo>
                  <a:arcTo wR="0" hR="0" stAng="16200000" swAng="-5400000"/>
                  <a:lnTo>
                    <a:pt x="0" y="44635"/>
                  </a:lnTo>
                  <a:arcTo wR="0" hR="0" stAng="10800000" swAng="-5400000"/>
                  <a:lnTo>
                    <a:pt x="21600" y="4463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4618080" y="3783960"/>
              <a:ext cx="84240" cy="198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737">
                  <a:moveTo>
                    <a:pt x="0" y="0"/>
                  </a:moveTo>
                  <a:arcTo wR="0" hR="0" stAng="16200000" swAng="-5400000"/>
                  <a:lnTo>
                    <a:pt x="0" y="50737"/>
                  </a:lnTo>
                  <a:arcTo wR="0" hR="0" stAng="10800000" swAng="-5400000"/>
                  <a:lnTo>
                    <a:pt x="21600" y="507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V="1">
              <a:off x="4621320" y="3920400"/>
              <a:ext cx="79200" cy="5724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4621320" y="3789360"/>
              <a:ext cx="33120" cy="125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81058">
                  <a:moveTo>
                    <a:pt x="0" y="0"/>
                  </a:moveTo>
                  <a:arcTo wR="0" hR="0" stAng="16200000" swAng="-5400000"/>
                  <a:lnTo>
                    <a:pt x="0" y="81058"/>
                  </a:lnTo>
                  <a:arcTo wR="0" hR="0" stAng="10800000" swAng="-5400000"/>
                  <a:lnTo>
                    <a:pt x="21600" y="8105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4672080" y="37918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4629240" y="382356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4629240" y="382356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V="1">
              <a:off x="4656240" y="378936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4667400" y="379188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V="1">
              <a:off x="4641840" y="3929040"/>
              <a:ext cx="6480" cy="475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1200">
                  <a:moveTo>
                    <a:pt x="0" y="0"/>
                  </a:moveTo>
                  <a:arcTo wR="0" hR="0" stAng="16200000" swAng="-5400000"/>
                  <a:lnTo>
                    <a:pt x="0" y="151200"/>
                  </a:lnTo>
                  <a:arcTo wR="0" hR="0" stAng="10800000" swAng="-5400000"/>
                  <a:lnTo>
                    <a:pt x="21600" y="151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29240" y="3933720"/>
              <a:ext cx="46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629240" y="3956040"/>
              <a:ext cx="46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603680" y="3772080"/>
              <a:ext cx="115920" cy="2268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4678200" y="392976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V="1">
              <a:off x="4748040" y="3777480"/>
              <a:ext cx="37944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V="1">
              <a:off x="4748040" y="381564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V="1">
              <a:off x="4748040" y="385848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V="1">
              <a:off x="4748040" y="390456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4748040" y="394740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4" name=""/>
            <p:cNvGrpSpPr/>
            <p:nvPr/>
          </p:nvGrpSpPr>
          <p:grpSpPr>
            <a:xfrm>
              <a:off x="4768920" y="3780000"/>
              <a:ext cx="341280" cy="210960"/>
              <a:chOff x="4768920" y="3780000"/>
              <a:chExt cx="341280" cy="210960"/>
            </a:xfrm>
          </p:grpSpPr>
          <p:sp>
            <p:nvSpPr>
              <p:cNvPr id="2805" name=""/>
              <p:cNvSpPr/>
              <p:nvPr/>
            </p:nvSpPr>
            <p:spPr>
              <a:xfrm>
                <a:off x="47689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7876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80348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8207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8384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8553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8744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89348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9143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93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947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9647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9820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001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02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037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056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0738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091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11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25" name=""/>
            <p:cNvSpPr/>
            <p:nvPr/>
          </p:nvSpPr>
          <p:spPr>
            <a:xfrm flipV="1">
              <a:off x="4748040" y="4141800"/>
              <a:ext cx="37944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V="1">
              <a:off x="4748040" y="4179960"/>
              <a:ext cx="3765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V="1">
              <a:off x="4748040" y="422208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V="1">
              <a:off x="4748040" y="4267080"/>
              <a:ext cx="3765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4748040" y="4309920"/>
              <a:ext cx="3765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30" name=""/>
            <p:cNvGrpSpPr/>
            <p:nvPr/>
          </p:nvGrpSpPr>
          <p:grpSpPr>
            <a:xfrm>
              <a:off x="4768920" y="4143240"/>
              <a:ext cx="341280" cy="211320"/>
              <a:chOff x="4768920" y="4143240"/>
              <a:chExt cx="341280" cy="211320"/>
            </a:xfrm>
          </p:grpSpPr>
          <p:sp>
            <p:nvSpPr>
              <p:cNvPr id="2831" name=""/>
              <p:cNvSpPr/>
              <p:nvPr/>
            </p:nvSpPr>
            <p:spPr>
              <a:xfrm>
                <a:off x="47689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7876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80348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8207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8384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8553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8744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89348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9143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93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947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9647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9820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5001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02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037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5056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0738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091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11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51" name=""/>
            <p:cNvSpPr/>
            <p:nvPr/>
          </p:nvSpPr>
          <p:spPr>
            <a:xfrm flipV="1">
              <a:off x="4748040" y="4487040"/>
              <a:ext cx="37944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V="1">
              <a:off x="4748040" y="452520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4748040" y="456804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V="1">
              <a:off x="4748040" y="461412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V="1">
              <a:off x="4748040" y="465696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4768920" y="4489560"/>
              <a:ext cx="341280" cy="210960"/>
              <a:chOff x="4768920" y="4489560"/>
              <a:chExt cx="341280" cy="210960"/>
            </a:xfrm>
          </p:grpSpPr>
          <p:sp>
            <p:nvSpPr>
              <p:cNvPr id="2857" name=""/>
              <p:cNvSpPr/>
              <p:nvPr/>
            </p:nvSpPr>
            <p:spPr>
              <a:xfrm>
                <a:off x="47689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7876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80348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8207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8384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8553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8744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89348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9143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93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947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9647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9820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001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02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037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056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0738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091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511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77" name=""/>
            <p:cNvSpPr/>
            <p:nvPr/>
          </p:nvSpPr>
          <p:spPr>
            <a:xfrm flipV="1">
              <a:off x="4606920" y="403704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603680" y="4037040"/>
              <a:ext cx="9864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V="1">
              <a:off x="4606920" y="4079880"/>
              <a:ext cx="13824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603680" y="4079880"/>
              <a:ext cx="14436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1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s1.sanjos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aadab vastusek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5" name=""/>
          <p:cNvGrpSpPr/>
          <p:nvPr/>
        </p:nvGrpSpPr>
        <p:grpSpPr>
          <a:xfrm>
            <a:off x="5986440" y="2457000"/>
            <a:ext cx="630360" cy="1074600"/>
            <a:chOff x="5986440" y="2457000"/>
            <a:chExt cx="630360" cy="1074600"/>
          </a:xfrm>
        </p:grpSpPr>
        <p:sp>
          <p:nvSpPr>
            <p:cNvPr id="2886" name=""/>
            <p:cNvSpPr/>
            <p:nvPr/>
          </p:nvSpPr>
          <p:spPr>
            <a:xfrm flipV="1">
              <a:off x="5986440" y="245664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5999040" y="3485520"/>
              <a:ext cx="609840" cy="45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019920" y="245844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022800" y="2466360"/>
              <a:ext cx="557280" cy="101484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5989680" y="2461680"/>
              <a:ext cx="2376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586560" y="2461680"/>
              <a:ext cx="2700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586560" y="2458440"/>
              <a:ext cx="0" cy="10306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V="1">
              <a:off x="6040440" y="2530080"/>
              <a:ext cx="109440" cy="221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1760"/>
                <a:gd name="textAreaBottom" fmla="*/ 222480 h 221760"/>
              </a:gdLst>
              <a:ahLst/>
              <a:rect l="textAreaLeft" t="textAreaTop" r="textAreaRight" b="textAreaBottom"/>
              <a:pathLst>
                <a:path w="21600" h="43696">
                  <a:moveTo>
                    <a:pt x="0" y="0"/>
                  </a:moveTo>
                  <a:arcTo wR="0" hR="0" stAng="16200000" swAng="-5400000"/>
                  <a:lnTo>
                    <a:pt x="0" y="43696"/>
                  </a:lnTo>
                  <a:arcTo wR="0" hR="0" stAng="10800000" swAng="-5400000"/>
                  <a:lnTo>
                    <a:pt x="21600" y="436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V="1">
              <a:off x="6051600" y="2541960"/>
              <a:ext cx="84240" cy="199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51105">
                  <a:moveTo>
                    <a:pt x="0" y="0"/>
                  </a:moveTo>
                  <a:arcTo wR="0" hR="0" stAng="16200000" swAng="-5400000"/>
                  <a:lnTo>
                    <a:pt x="0" y="51105"/>
                  </a:lnTo>
                  <a:arcTo wR="0" hR="0" stAng="10800000" swAng="-5400000"/>
                  <a:lnTo>
                    <a:pt x="21600" y="5110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V="1">
              <a:off x="6054840" y="2680200"/>
              <a:ext cx="79200" cy="565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6054840" y="2548440"/>
              <a:ext cx="33120" cy="12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80826">
                  <a:moveTo>
                    <a:pt x="0" y="0"/>
                  </a:moveTo>
                  <a:arcTo wR="0" hR="0" stAng="16200000" swAng="-5400000"/>
                  <a:lnTo>
                    <a:pt x="0" y="80826"/>
                  </a:lnTo>
                  <a:arcTo wR="0" hR="0" stAng="10800000" swAng="-5400000"/>
                  <a:lnTo>
                    <a:pt x="21600" y="808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6107040" y="2552040"/>
              <a:ext cx="22320" cy="11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105943">
                  <a:moveTo>
                    <a:pt x="0" y="0"/>
                  </a:moveTo>
                  <a:arcTo wR="0" hR="0" stAng="16200000" swAng="-5400000"/>
                  <a:lnTo>
                    <a:pt x="0" y="105943"/>
                  </a:lnTo>
                  <a:arcTo wR="0" hR="0" stAng="10800000" swAng="-5400000"/>
                  <a:lnTo>
                    <a:pt x="21600" y="1059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6062760" y="2584080"/>
              <a:ext cx="19080" cy="82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360 h 82080"/>
                <a:gd name="textAreaBottom" fmla="*/ 82800 h 82080"/>
              </a:gdLst>
              <a:ahLst/>
              <a:rect l="textAreaLeft" t="textAreaTop" r="textAreaRight" b="textAreaBottom"/>
              <a:pathLst>
                <a:path w="21600" h="91600">
                  <a:moveTo>
                    <a:pt x="0" y="0"/>
                  </a:moveTo>
                  <a:arcTo wR="0" hR="0" stAng="16200000" swAng="-5400000"/>
                  <a:lnTo>
                    <a:pt x="0" y="91600"/>
                  </a:lnTo>
                  <a:arcTo wR="0" hR="0" stAng="10800000" swAng="-5400000"/>
                  <a:lnTo>
                    <a:pt x="21600" y="91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V="1">
              <a:off x="6064200" y="2584080"/>
              <a:ext cx="17640" cy="4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V="1">
              <a:off x="6091200" y="2548440"/>
              <a:ext cx="3240" cy="124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751680">
                  <a:moveTo>
                    <a:pt x="0" y="0"/>
                  </a:moveTo>
                  <a:arcTo wR="0" hR="0" stAng="16200000" swAng="-5400000"/>
                  <a:lnTo>
                    <a:pt x="0" y="751680"/>
                  </a:lnTo>
                  <a:arcTo wR="0" hR="0" stAng="10800000" swAng="-5400000"/>
                  <a:lnTo>
                    <a:pt x="21600" y="751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V="1">
              <a:off x="6102360" y="2552040"/>
              <a:ext cx="6480" cy="11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351284">
                  <a:moveTo>
                    <a:pt x="0" y="0"/>
                  </a:moveTo>
                  <a:arcTo wR="0" hR="0" stAng="16200000" swAng="-5400000"/>
                  <a:lnTo>
                    <a:pt x="0" y="351284"/>
                  </a:lnTo>
                  <a:arcTo wR="0" hR="0" stAng="10800000" swAng="-5400000"/>
                  <a:lnTo>
                    <a:pt x="21600" y="35128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6076800" y="2688120"/>
              <a:ext cx="6480" cy="47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47160"/>
                <a:gd name="textAreaBottom" fmla="*/ 47160 h 47160"/>
              </a:gdLst>
              <a:ahLst/>
              <a:rect l="textAreaLeft" t="textAreaTop" r="textAreaRight" b="textAreaBottom"/>
              <a:pathLst>
                <a:path w="21600" h="150063">
                  <a:moveTo>
                    <a:pt x="0" y="0"/>
                  </a:moveTo>
                  <a:arcTo wR="0" hR="0" stAng="16200000" swAng="-5400000"/>
                  <a:lnTo>
                    <a:pt x="0" y="150063"/>
                  </a:lnTo>
                  <a:arcTo wR="0" hR="0" stAng="10800000" swAng="-5400000"/>
                  <a:lnTo>
                    <a:pt x="21600" y="15006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062760" y="2693520"/>
              <a:ext cx="4680" cy="43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062760" y="2714040"/>
              <a:ext cx="4680" cy="61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040440" y="2530080"/>
              <a:ext cx="112680" cy="22824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flipV="1">
              <a:off x="6113520" y="2689560"/>
              <a:ext cx="6120" cy="15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-360 h 15480"/>
                <a:gd name="textAreaBottom" fmla="*/ 15480 h 15480"/>
              </a:gdLst>
              <a:ahLst/>
              <a:rect l="textAreaLeft" t="textAreaTop" r="textAreaRight" b="textAreaBottom"/>
              <a:pathLst>
                <a:path w="21600" h="52800">
                  <a:moveTo>
                    <a:pt x="0" y="0"/>
                  </a:moveTo>
                  <a:arcTo wR="0" hR="0" stAng="16200000" swAng="-5400000"/>
                  <a:lnTo>
                    <a:pt x="0" y="52800"/>
                  </a:lnTo>
                  <a:arcTo wR="0" hR="0" stAng="10800000" swAng="-5400000"/>
                  <a:lnTo>
                    <a:pt x="21600" y="5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6181560" y="2538000"/>
              <a:ext cx="37944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6183360" y="25761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6183360" y="261828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V="1">
              <a:off x="6183360" y="266436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6183360" y="270792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2" name=""/>
            <p:cNvGrpSpPr/>
            <p:nvPr/>
          </p:nvGrpSpPr>
          <p:grpSpPr>
            <a:xfrm>
              <a:off x="6202440" y="2539440"/>
              <a:ext cx="341280" cy="210960"/>
              <a:chOff x="6202440" y="2539440"/>
              <a:chExt cx="341280" cy="210960"/>
            </a:xfrm>
          </p:grpSpPr>
          <p:sp>
            <p:nvSpPr>
              <p:cNvPr id="2913" name=""/>
              <p:cNvSpPr/>
              <p:nvPr/>
            </p:nvSpPr>
            <p:spPr>
              <a:xfrm>
                <a:off x="620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21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2370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25608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273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29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30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3288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6347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36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38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39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41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43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45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47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6491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650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52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543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3" name=""/>
            <p:cNvSpPr/>
            <p:nvPr/>
          </p:nvSpPr>
          <p:spPr>
            <a:xfrm flipV="1">
              <a:off x="6181560" y="2900520"/>
              <a:ext cx="379440" cy="209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183360" y="29376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V="1">
              <a:off x="6183360" y="298044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flipV="1">
              <a:off x="6183360" y="302616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V="1">
              <a:off x="6183360" y="30690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38" name=""/>
            <p:cNvGrpSpPr/>
            <p:nvPr/>
          </p:nvGrpSpPr>
          <p:grpSpPr>
            <a:xfrm>
              <a:off x="6202440" y="2902680"/>
              <a:ext cx="341280" cy="209160"/>
              <a:chOff x="6202440" y="2902680"/>
              <a:chExt cx="341280" cy="209160"/>
            </a:xfrm>
          </p:grpSpPr>
          <p:sp>
            <p:nvSpPr>
              <p:cNvPr id="2939" name=""/>
              <p:cNvSpPr/>
              <p:nvPr/>
            </p:nvSpPr>
            <p:spPr>
              <a:xfrm>
                <a:off x="620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221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62370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25608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6273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29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30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3288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6347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636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638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639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41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43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45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647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6491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650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52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6543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59" name=""/>
            <p:cNvSpPr/>
            <p:nvPr/>
          </p:nvSpPr>
          <p:spPr>
            <a:xfrm flipV="1">
              <a:off x="6181560" y="3246120"/>
              <a:ext cx="379440" cy="21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V="1">
              <a:off x="6183360" y="3283920"/>
              <a:ext cx="374760" cy="10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6183360" y="332748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6183360" y="33717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V="1">
              <a:off x="6183360" y="3413880"/>
              <a:ext cx="37476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4" name=""/>
            <p:cNvGrpSpPr/>
            <p:nvPr/>
          </p:nvGrpSpPr>
          <p:grpSpPr>
            <a:xfrm>
              <a:off x="6202440" y="3248280"/>
              <a:ext cx="341280" cy="210960"/>
              <a:chOff x="6202440" y="3248280"/>
              <a:chExt cx="341280" cy="210960"/>
            </a:xfrm>
          </p:grpSpPr>
          <p:sp>
            <p:nvSpPr>
              <p:cNvPr id="2965" name=""/>
              <p:cNvSpPr/>
              <p:nvPr/>
            </p:nvSpPr>
            <p:spPr>
              <a:xfrm>
                <a:off x="620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221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2370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25608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273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29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30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3288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347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36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38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39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41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43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45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47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491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50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52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543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5" name=""/>
            <p:cNvSpPr/>
            <p:nvPr/>
          </p:nvSpPr>
          <p:spPr>
            <a:xfrm flipV="1">
              <a:off x="6040440" y="2796480"/>
              <a:ext cx="96840" cy="216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040440" y="2796480"/>
              <a:ext cx="98280" cy="2484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V="1">
              <a:off x="6040440" y="2839320"/>
              <a:ext cx="139680" cy="29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040440" y="2839320"/>
              <a:ext cx="142920" cy="34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9" name=""/>
          <p:cNvSpPr/>
          <p:nvPr/>
        </p:nvSpPr>
        <p:spPr>
          <a:xfrm>
            <a:off x="561492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0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2991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3018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8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3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3044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4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9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3070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0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4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4394160" y="4768920"/>
            <a:ext cx="1780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6" name=""/>
          <p:cNvGrpSpPr/>
          <p:nvPr/>
        </p:nvGrpSpPr>
        <p:grpSpPr>
          <a:xfrm>
            <a:off x="2209680" y="4495680"/>
            <a:ext cx="2197080" cy="1009800"/>
            <a:chOff x="2209680" y="4495680"/>
            <a:chExt cx="2197080" cy="1009800"/>
          </a:xfrm>
        </p:grpSpPr>
        <p:sp>
          <p:nvSpPr>
            <p:cNvPr id="3097" name=""/>
            <p:cNvSpPr/>
            <p:nvPr/>
          </p:nvSpPr>
          <p:spPr>
            <a:xfrm>
              <a:off x="2209680" y="4495680"/>
              <a:ext cx="2197080" cy="100980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390760" y="4695840"/>
              <a:ext cx="1873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www.nominum.c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9" name=""/>
          <p:cNvSpPr/>
          <p:nvPr/>
        </p:nvSpPr>
        <p:spPr>
          <a:xfrm>
            <a:off x="3408480" y="3591000"/>
            <a:ext cx="1036440" cy="272880"/>
          </a:xfrm>
          <a:prstGeom prst="line">
            <a:avLst/>
          </a:prstGeom>
          <a:ln cap="sq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0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3101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7" name=""/>
          <p:cNvGrpSpPr/>
          <p:nvPr/>
        </p:nvGrpSpPr>
        <p:grpSpPr>
          <a:xfrm>
            <a:off x="6781680" y="4114440"/>
            <a:ext cx="630360" cy="1073520"/>
            <a:chOff x="6781680" y="4114440"/>
            <a:chExt cx="630360" cy="1073520"/>
          </a:xfrm>
        </p:grpSpPr>
        <p:sp>
          <p:nvSpPr>
            <p:cNvPr id="3128" name=""/>
            <p:cNvSpPr/>
            <p:nvPr/>
          </p:nvSpPr>
          <p:spPr>
            <a:xfrm flipV="1">
              <a:off x="6781680" y="411408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 flipV="1">
              <a:off x="6794640" y="5141880"/>
              <a:ext cx="6094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815160" y="411480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819840" y="41227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784920" y="4119480"/>
              <a:ext cx="2376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381800" y="4119480"/>
              <a:ext cx="2700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381800" y="4114800"/>
              <a:ext cx="0" cy="10288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 flipV="1">
              <a:off x="6834240" y="4186080"/>
              <a:ext cx="109440" cy="223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4121">
                  <a:moveTo>
                    <a:pt x="0" y="0"/>
                  </a:moveTo>
                  <a:arcTo wR="0" hR="0" stAng="16200000" swAng="-5400000"/>
                  <a:lnTo>
                    <a:pt x="0" y="44121"/>
                  </a:lnTo>
                  <a:arcTo wR="0" hR="0" stAng="10800000" swAng="-5400000"/>
                  <a:lnTo>
                    <a:pt x="21600" y="441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 flipV="1">
              <a:off x="6848640" y="419976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 flipV="1">
              <a:off x="6850080" y="4334760"/>
              <a:ext cx="7920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850080" y="4204440"/>
              <a:ext cx="33480" cy="127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81345">
                  <a:moveTo>
                    <a:pt x="0" y="0"/>
                  </a:moveTo>
                  <a:arcTo wR="0" hR="0" stAng="16200000" swAng="-5400000"/>
                  <a:lnTo>
                    <a:pt x="0" y="81345"/>
                  </a:lnTo>
                  <a:arcTo wR="0" hR="0" stAng="10800000" swAng="-5400000"/>
                  <a:lnTo>
                    <a:pt x="21600" y="8134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V="1">
              <a:off x="6902280" y="42076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6858000" y="424116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21600" h="90400">
                  <a:moveTo>
                    <a:pt x="0" y="0"/>
                  </a:moveTo>
                  <a:arcTo wR="0" hR="0" stAng="16200000" swAng="-5400000"/>
                  <a:lnTo>
                    <a:pt x="0" y="90400"/>
                  </a:lnTo>
                  <a:arcTo wR="0" hR="0" stAng="10800000" swAng="-5400000"/>
                  <a:lnTo>
                    <a:pt x="21600" y="90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6859440" y="4240080"/>
              <a:ext cx="19080" cy="50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V="1">
              <a:off x="6886440" y="4204440"/>
              <a:ext cx="1800" cy="127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1274400">
                  <a:moveTo>
                    <a:pt x="0" y="0"/>
                  </a:moveTo>
                  <a:arcTo wR="0" hR="0" stAng="16200000" swAng="-5400000"/>
                  <a:lnTo>
                    <a:pt x="0" y="1274400"/>
                  </a:lnTo>
                  <a:arcTo wR="0" hR="0" stAng="10800000" swAng="-5400000"/>
                  <a:lnTo>
                    <a:pt x="21600" y="127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6897600" y="4207680"/>
              <a:ext cx="6480" cy="111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352421">
                  <a:moveTo>
                    <a:pt x="0" y="0"/>
                  </a:moveTo>
                  <a:arcTo wR="0" hR="0" stAng="16200000" swAng="-5400000"/>
                  <a:lnTo>
                    <a:pt x="0" y="352421"/>
                  </a:lnTo>
                  <a:arcTo wR="0" hR="0" stAng="10800000" swAng="-5400000"/>
                  <a:lnTo>
                    <a:pt x="21600" y="3524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6872400" y="434340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858000" y="435132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858000" y="4370400"/>
              <a:ext cx="6480" cy="79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834240" y="4186080"/>
              <a:ext cx="115920" cy="22716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6908760" y="434412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978600" y="4195800"/>
              <a:ext cx="3808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V="1">
              <a:off x="6978600" y="42300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6978600" y="4276800"/>
              <a:ext cx="3747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V="1">
              <a:off x="6978600" y="43203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6978600" y="43617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54" name=""/>
            <p:cNvGrpSpPr/>
            <p:nvPr/>
          </p:nvGrpSpPr>
          <p:grpSpPr>
            <a:xfrm>
              <a:off x="6997680" y="4195800"/>
              <a:ext cx="343080" cy="210960"/>
              <a:chOff x="6997680" y="4195800"/>
              <a:chExt cx="343080" cy="210960"/>
            </a:xfrm>
          </p:grpSpPr>
          <p:sp>
            <p:nvSpPr>
              <p:cNvPr id="3155" name=""/>
              <p:cNvSpPr/>
              <p:nvPr/>
            </p:nvSpPr>
            <p:spPr>
              <a:xfrm>
                <a:off x="699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0178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033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0513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068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0858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10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1240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1431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1604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17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719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21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23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25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26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286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30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732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34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5" name=""/>
            <p:cNvSpPr/>
            <p:nvPr/>
          </p:nvSpPr>
          <p:spPr>
            <a:xfrm flipV="1">
              <a:off x="6978600" y="455688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V="1">
              <a:off x="6978600" y="459360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V="1">
              <a:off x="6978600" y="46378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6978600" y="4681440"/>
              <a:ext cx="3747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6978600" y="47253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6997680" y="4557600"/>
              <a:ext cx="343080" cy="211320"/>
              <a:chOff x="6997680" y="4557600"/>
              <a:chExt cx="343080" cy="211320"/>
            </a:xfrm>
          </p:grpSpPr>
          <p:sp>
            <p:nvSpPr>
              <p:cNvPr id="3181" name=""/>
              <p:cNvSpPr/>
              <p:nvPr/>
            </p:nvSpPr>
            <p:spPr>
              <a:xfrm>
                <a:off x="699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0178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033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0513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068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0858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10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1240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1431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1604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17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19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21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23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25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26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286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30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32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34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1" name=""/>
            <p:cNvSpPr/>
            <p:nvPr/>
          </p:nvSpPr>
          <p:spPr>
            <a:xfrm flipV="1">
              <a:off x="6978600" y="490140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6978600" y="49395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 flipV="1">
              <a:off x="6978600" y="49824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V="1">
              <a:off x="6978600" y="50284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V="1">
              <a:off x="6978600" y="507132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6" name=""/>
            <p:cNvGrpSpPr/>
            <p:nvPr/>
          </p:nvGrpSpPr>
          <p:grpSpPr>
            <a:xfrm>
              <a:off x="6997680" y="4905360"/>
              <a:ext cx="343080" cy="209520"/>
              <a:chOff x="6997680" y="4905360"/>
              <a:chExt cx="343080" cy="209520"/>
            </a:xfrm>
          </p:grpSpPr>
          <p:sp>
            <p:nvSpPr>
              <p:cNvPr id="3207" name=""/>
              <p:cNvSpPr/>
              <p:nvPr/>
            </p:nvSpPr>
            <p:spPr>
              <a:xfrm>
                <a:off x="699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0178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033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0513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068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0858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10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1240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1431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1604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17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19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21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23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25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26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286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30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32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34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7" name=""/>
            <p:cNvSpPr/>
            <p:nvPr/>
          </p:nvSpPr>
          <p:spPr>
            <a:xfrm flipV="1">
              <a:off x="6834240" y="4451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834240" y="4451400"/>
              <a:ext cx="9828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flipV="1">
              <a:off x="6834240" y="4494240"/>
              <a:ext cx="1396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6834240" y="4495680"/>
              <a:ext cx="1429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1" name=""/>
          <p:cNvGrpSpPr/>
          <p:nvPr/>
        </p:nvGrpSpPr>
        <p:grpSpPr>
          <a:xfrm>
            <a:off x="4552920" y="3698640"/>
            <a:ext cx="628560" cy="1074960"/>
            <a:chOff x="4552920" y="3698640"/>
            <a:chExt cx="628560" cy="1074960"/>
          </a:xfrm>
        </p:grpSpPr>
        <p:sp>
          <p:nvSpPr>
            <p:cNvPr id="3232" name=""/>
            <p:cNvSpPr/>
            <p:nvPr/>
          </p:nvSpPr>
          <p:spPr>
            <a:xfrm flipV="1">
              <a:off x="4552920" y="3698280"/>
              <a:ext cx="628560" cy="10270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87">
                  <a:moveTo>
                    <a:pt x="0" y="0"/>
                  </a:moveTo>
                  <a:arcTo wR="0" hR="0" stAng="16200000" swAng="-5400000"/>
                  <a:lnTo>
                    <a:pt x="0" y="35287"/>
                  </a:lnTo>
                  <a:arcTo wR="0" hR="0" stAng="10800000" swAng="-5400000"/>
                  <a:lnTo>
                    <a:pt x="21600" y="3528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 flipV="1">
              <a:off x="4565520" y="4727520"/>
              <a:ext cx="60804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584600" y="369900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587840" y="37069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554360" y="3703680"/>
              <a:ext cx="24120" cy="10177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153040" y="3703680"/>
              <a:ext cx="27000" cy="10177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153040" y="3699000"/>
              <a:ext cx="0" cy="103176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V="1">
              <a:off x="4606920" y="3771360"/>
              <a:ext cx="108000" cy="2235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21600" h="44635">
                  <a:moveTo>
                    <a:pt x="0" y="0"/>
                  </a:moveTo>
                  <a:arcTo wR="0" hR="0" stAng="16200000" swAng="-5400000"/>
                  <a:lnTo>
                    <a:pt x="0" y="44635"/>
                  </a:lnTo>
                  <a:arcTo wR="0" hR="0" stAng="10800000" swAng="-5400000"/>
                  <a:lnTo>
                    <a:pt x="21600" y="4463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V="1">
              <a:off x="4618080" y="3783960"/>
              <a:ext cx="84240" cy="198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737">
                  <a:moveTo>
                    <a:pt x="0" y="0"/>
                  </a:moveTo>
                  <a:arcTo wR="0" hR="0" stAng="16200000" swAng="-5400000"/>
                  <a:lnTo>
                    <a:pt x="0" y="50737"/>
                  </a:lnTo>
                  <a:arcTo wR="0" hR="0" stAng="10800000" swAng="-5400000"/>
                  <a:lnTo>
                    <a:pt x="21600" y="507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4621320" y="3920400"/>
              <a:ext cx="79200" cy="5724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V="1">
              <a:off x="4621320" y="3789360"/>
              <a:ext cx="33120" cy="125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81058">
                  <a:moveTo>
                    <a:pt x="0" y="0"/>
                  </a:moveTo>
                  <a:arcTo wR="0" hR="0" stAng="16200000" swAng="-5400000"/>
                  <a:lnTo>
                    <a:pt x="0" y="81058"/>
                  </a:lnTo>
                  <a:arcTo wR="0" hR="0" stAng="10800000" swAng="-5400000"/>
                  <a:lnTo>
                    <a:pt x="21600" y="8105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4672080" y="37918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flipV="1">
              <a:off x="4629240" y="382356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V="1">
              <a:off x="4629240" y="382356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4656240" y="378936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V="1">
              <a:off x="4667400" y="379188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V="1">
              <a:off x="4641840" y="3929040"/>
              <a:ext cx="6480" cy="475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1200">
                  <a:moveTo>
                    <a:pt x="0" y="0"/>
                  </a:moveTo>
                  <a:arcTo wR="0" hR="0" stAng="16200000" swAng="-5400000"/>
                  <a:lnTo>
                    <a:pt x="0" y="151200"/>
                  </a:lnTo>
                  <a:arcTo wR="0" hR="0" stAng="10800000" swAng="-5400000"/>
                  <a:lnTo>
                    <a:pt x="21600" y="151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629240" y="3933720"/>
              <a:ext cx="46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629240" y="3956040"/>
              <a:ext cx="46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603680" y="3772080"/>
              <a:ext cx="115920" cy="2268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 flipV="1">
              <a:off x="4678200" y="392976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V="1">
              <a:off x="4748040" y="3777480"/>
              <a:ext cx="37944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 flipV="1">
              <a:off x="4748040" y="381564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V="1">
              <a:off x="4748040" y="385848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flipV="1">
              <a:off x="4748040" y="390456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4748040" y="394740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8" name=""/>
            <p:cNvGrpSpPr/>
            <p:nvPr/>
          </p:nvGrpSpPr>
          <p:grpSpPr>
            <a:xfrm>
              <a:off x="4768920" y="3780000"/>
              <a:ext cx="341280" cy="210960"/>
              <a:chOff x="4768920" y="3780000"/>
              <a:chExt cx="341280" cy="210960"/>
            </a:xfrm>
          </p:grpSpPr>
          <p:sp>
            <p:nvSpPr>
              <p:cNvPr id="3259" name=""/>
              <p:cNvSpPr/>
              <p:nvPr/>
            </p:nvSpPr>
            <p:spPr>
              <a:xfrm>
                <a:off x="47689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7876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80348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48207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8384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8553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8744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89348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49143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93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947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9647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49820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001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02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037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056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0738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091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11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79" name=""/>
            <p:cNvSpPr/>
            <p:nvPr/>
          </p:nvSpPr>
          <p:spPr>
            <a:xfrm flipV="1">
              <a:off x="4748040" y="4141800"/>
              <a:ext cx="37944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V="1">
              <a:off x="4748040" y="4179960"/>
              <a:ext cx="3765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V="1">
              <a:off x="4748040" y="422208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4748040" y="4267080"/>
              <a:ext cx="3765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V="1">
              <a:off x="4748040" y="4309920"/>
              <a:ext cx="3765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4" name=""/>
            <p:cNvGrpSpPr/>
            <p:nvPr/>
          </p:nvGrpSpPr>
          <p:grpSpPr>
            <a:xfrm>
              <a:off x="4768920" y="4143240"/>
              <a:ext cx="341280" cy="211320"/>
              <a:chOff x="4768920" y="4143240"/>
              <a:chExt cx="341280" cy="211320"/>
            </a:xfrm>
          </p:grpSpPr>
          <p:sp>
            <p:nvSpPr>
              <p:cNvPr id="3285" name=""/>
              <p:cNvSpPr/>
              <p:nvPr/>
            </p:nvSpPr>
            <p:spPr>
              <a:xfrm>
                <a:off x="47689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7876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480348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8207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8384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48553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48744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489348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9143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493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4947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49647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9820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001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02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037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056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0738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091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11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5" name=""/>
            <p:cNvSpPr/>
            <p:nvPr/>
          </p:nvSpPr>
          <p:spPr>
            <a:xfrm flipV="1">
              <a:off x="4748040" y="4487040"/>
              <a:ext cx="37944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V="1">
              <a:off x="4748040" y="452520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V="1">
              <a:off x="4748040" y="456804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V="1">
              <a:off x="4748040" y="461412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V="1">
              <a:off x="4748040" y="465696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10" name=""/>
            <p:cNvGrpSpPr/>
            <p:nvPr/>
          </p:nvGrpSpPr>
          <p:grpSpPr>
            <a:xfrm>
              <a:off x="4768920" y="4489560"/>
              <a:ext cx="341280" cy="210960"/>
              <a:chOff x="4768920" y="4489560"/>
              <a:chExt cx="341280" cy="210960"/>
            </a:xfrm>
          </p:grpSpPr>
          <p:sp>
            <p:nvSpPr>
              <p:cNvPr id="3311" name=""/>
              <p:cNvSpPr/>
              <p:nvPr/>
            </p:nvSpPr>
            <p:spPr>
              <a:xfrm>
                <a:off x="47689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7876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80348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8207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8384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8553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48744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489348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49143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493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4947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9647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49820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001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02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037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056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0738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091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11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1" name=""/>
            <p:cNvSpPr/>
            <p:nvPr/>
          </p:nvSpPr>
          <p:spPr>
            <a:xfrm flipV="1">
              <a:off x="4606920" y="403704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603680" y="4037040"/>
              <a:ext cx="9864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V="1">
              <a:off x="4606920" y="4079880"/>
              <a:ext cx="13824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603680" y="4079880"/>
              <a:ext cx="14436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5" name=""/>
          <p:cNvGrpSpPr/>
          <p:nvPr/>
        </p:nvGrpSpPr>
        <p:grpSpPr>
          <a:xfrm>
            <a:off x="3370320" y="2486160"/>
            <a:ext cx="2195280" cy="1008000"/>
            <a:chOff x="3370320" y="2486160"/>
            <a:chExt cx="2195280" cy="1008000"/>
          </a:xfrm>
        </p:grpSpPr>
        <p:sp>
          <p:nvSpPr>
            <p:cNvPr id="3336" name=""/>
            <p:cNvSpPr/>
            <p:nvPr/>
          </p:nvSpPr>
          <p:spPr>
            <a:xfrm>
              <a:off x="3370320" y="2486160"/>
              <a:ext cx="2195280" cy="100800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600360" y="2583000"/>
              <a:ext cx="1871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www.nominum.c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8" name=""/>
          <p:cNvSpPr/>
          <p:nvPr/>
        </p:nvSpPr>
        <p:spPr>
          <a:xfrm flipV="1">
            <a:off x="1817640" y="3669840"/>
            <a:ext cx="571680" cy="777960"/>
          </a:xfrm>
          <a:prstGeom prst="line">
            <a:avLst/>
          </a:prstGeom>
          <a:ln cap="sq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vastab masinale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nni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ja saad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3" name=""/>
          <p:cNvGrpSpPr/>
          <p:nvPr/>
        </p:nvGrpSpPr>
        <p:grpSpPr>
          <a:xfrm>
            <a:off x="5986440" y="2457000"/>
            <a:ext cx="630360" cy="1074600"/>
            <a:chOff x="5986440" y="2457000"/>
            <a:chExt cx="630360" cy="1074600"/>
          </a:xfrm>
        </p:grpSpPr>
        <p:sp>
          <p:nvSpPr>
            <p:cNvPr id="3344" name=""/>
            <p:cNvSpPr/>
            <p:nvPr/>
          </p:nvSpPr>
          <p:spPr>
            <a:xfrm flipV="1">
              <a:off x="5986440" y="245664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V="1">
              <a:off x="5999040" y="3485520"/>
              <a:ext cx="609840" cy="45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6019920" y="245844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022800" y="2466360"/>
              <a:ext cx="557280" cy="101484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989680" y="2461680"/>
              <a:ext cx="2376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6586560" y="2461680"/>
              <a:ext cx="2700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6586560" y="2458440"/>
              <a:ext cx="0" cy="10306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V="1">
              <a:off x="6040440" y="2530080"/>
              <a:ext cx="109440" cy="221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1760"/>
                <a:gd name="textAreaBottom" fmla="*/ 222480 h 221760"/>
              </a:gdLst>
              <a:ahLst/>
              <a:rect l="textAreaLeft" t="textAreaTop" r="textAreaRight" b="textAreaBottom"/>
              <a:pathLst>
                <a:path w="21600" h="43696">
                  <a:moveTo>
                    <a:pt x="0" y="0"/>
                  </a:moveTo>
                  <a:arcTo wR="0" hR="0" stAng="16200000" swAng="-5400000"/>
                  <a:lnTo>
                    <a:pt x="0" y="43696"/>
                  </a:lnTo>
                  <a:arcTo wR="0" hR="0" stAng="10800000" swAng="-5400000"/>
                  <a:lnTo>
                    <a:pt x="21600" y="436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V="1">
              <a:off x="6051600" y="2541960"/>
              <a:ext cx="84240" cy="199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51105">
                  <a:moveTo>
                    <a:pt x="0" y="0"/>
                  </a:moveTo>
                  <a:arcTo wR="0" hR="0" stAng="16200000" swAng="-5400000"/>
                  <a:lnTo>
                    <a:pt x="0" y="51105"/>
                  </a:lnTo>
                  <a:arcTo wR="0" hR="0" stAng="10800000" swAng="-5400000"/>
                  <a:lnTo>
                    <a:pt x="21600" y="5110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 flipV="1">
              <a:off x="6054840" y="2680200"/>
              <a:ext cx="79200" cy="565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V="1">
              <a:off x="6054840" y="2548440"/>
              <a:ext cx="33120" cy="12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80826">
                  <a:moveTo>
                    <a:pt x="0" y="0"/>
                  </a:moveTo>
                  <a:arcTo wR="0" hR="0" stAng="16200000" swAng="-5400000"/>
                  <a:lnTo>
                    <a:pt x="0" y="80826"/>
                  </a:lnTo>
                  <a:arcTo wR="0" hR="0" stAng="10800000" swAng="-5400000"/>
                  <a:lnTo>
                    <a:pt x="21600" y="808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V="1">
              <a:off x="6107040" y="2552040"/>
              <a:ext cx="22320" cy="11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105943">
                  <a:moveTo>
                    <a:pt x="0" y="0"/>
                  </a:moveTo>
                  <a:arcTo wR="0" hR="0" stAng="16200000" swAng="-5400000"/>
                  <a:lnTo>
                    <a:pt x="0" y="105943"/>
                  </a:lnTo>
                  <a:arcTo wR="0" hR="0" stAng="10800000" swAng="-5400000"/>
                  <a:lnTo>
                    <a:pt x="21600" y="1059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V="1">
              <a:off x="6062760" y="2584080"/>
              <a:ext cx="19080" cy="82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360 h 82080"/>
                <a:gd name="textAreaBottom" fmla="*/ 82800 h 82080"/>
              </a:gdLst>
              <a:ahLst/>
              <a:rect l="textAreaLeft" t="textAreaTop" r="textAreaRight" b="textAreaBottom"/>
              <a:pathLst>
                <a:path w="21600" h="91600">
                  <a:moveTo>
                    <a:pt x="0" y="0"/>
                  </a:moveTo>
                  <a:arcTo wR="0" hR="0" stAng="16200000" swAng="-5400000"/>
                  <a:lnTo>
                    <a:pt x="0" y="91600"/>
                  </a:lnTo>
                  <a:arcTo wR="0" hR="0" stAng="10800000" swAng="-5400000"/>
                  <a:lnTo>
                    <a:pt x="21600" y="91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6064200" y="2584080"/>
              <a:ext cx="17640" cy="4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V="1">
              <a:off x="6091200" y="2548440"/>
              <a:ext cx="3240" cy="124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751680">
                  <a:moveTo>
                    <a:pt x="0" y="0"/>
                  </a:moveTo>
                  <a:arcTo wR="0" hR="0" stAng="16200000" swAng="-5400000"/>
                  <a:lnTo>
                    <a:pt x="0" y="751680"/>
                  </a:lnTo>
                  <a:arcTo wR="0" hR="0" stAng="10800000" swAng="-5400000"/>
                  <a:lnTo>
                    <a:pt x="21600" y="751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flipV="1">
              <a:off x="6102360" y="2552040"/>
              <a:ext cx="6480" cy="11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351284">
                  <a:moveTo>
                    <a:pt x="0" y="0"/>
                  </a:moveTo>
                  <a:arcTo wR="0" hR="0" stAng="16200000" swAng="-5400000"/>
                  <a:lnTo>
                    <a:pt x="0" y="351284"/>
                  </a:lnTo>
                  <a:arcTo wR="0" hR="0" stAng="10800000" swAng="-5400000"/>
                  <a:lnTo>
                    <a:pt x="21600" y="35128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 flipV="1">
              <a:off x="6076800" y="2688120"/>
              <a:ext cx="6480" cy="47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47160"/>
                <a:gd name="textAreaBottom" fmla="*/ 47160 h 47160"/>
              </a:gdLst>
              <a:ahLst/>
              <a:rect l="textAreaLeft" t="textAreaTop" r="textAreaRight" b="textAreaBottom"/>
              <a:pathLst>
                <a:path w="21600" h="150063">
                  <a:moveTo>
                    <a:pt x="0" y="0"/>
                  </a:moveTo>
                  <a:arcTo wR="0" hR="0" stAng="16200000" swAng="-5400000"/>
                  <a:lnTo>
                    <a:pt x="0" y="150063"/>
                  </a:lnTo>
                  <a:arcTo wR="0" hR="0" stAng="10800000" swAng="-5400000"/>
                  <a:lnTo>
                    <a:pt x="21600" y="15006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062760" y="2693520"/>
              <a:ext cx="4680" cy="43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062760" y="2714040"/>
              <a:ext cx="4680" cy="61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040440" y="2530080"/>
              <a:ext cx="112680" cy="22824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6113520" y="2689560"/>
              <a:ext cx="6120" cy="15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-360 h 15480"/>
                <a:gd name="textAreaBottom" fmla="*/ 15480 h 15480"/>
              </a:gdLst>
              <a:ahLst/>
              <a:rect l="textAreaLeft" t="textAreaTop" r="textAreaRight" b="textAreaBottom"/>
              <a:pathLst>
                <a:path w="21600" h="52800">
                  <a:moveTo>
                    <a:pt x="0" y="0"/>
                  </a:moveTo>
                  <a:arcTo wR="0" hR="0" stAng="16200000" swAng="-5400000"/>
                  <a:lnTo>
                    <a:pt x="0" y="52800"/>
                  </a:lnTo>
                  <a:arcTo wR="0" hR="0" stAng="10800000" swAng="-5400000"/>
                  <a:lnTo>
                    <a:pt x="21600" y="5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V="1">
              <a:off x="6181560" y="2538000"/>
              <a:ext cx="37944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V="1">
              <a:off x="6183360" y="25761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V="1">
              <a:off x="6183360" y="261828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V="1">
              <a:off x="6183360" y="266436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V="1">
              <a:off x="6183360" y="270792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70" name=""/>
            <p:cNvGrpSpPr/>
            <p:nvPr/>
          </p:nvGrpSpPr>
          <p:grpSpPr>
            <a:xfrm>
              <a:off x="6202440" y="2539440"/>
              <a:ext cx="341280" cy="210960"/>
              <a:chOff x="6202440" y="2539440"/>
              <a:chExt cx="341280" cy="210960"/>
            </a:xfrm>
          </p:grpSpPr>
          <p:sp>
            <p:nvSpPr>
              <p:cNvPr id="3371" name=""/>
              <p:cNvSpPr/>
              <p:nvPr/>
            </p:nvSpPr>
            <p:spPr>
              <a:xfrm>
                <a:off x="620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221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2370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25608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273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29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30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3288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347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36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38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39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41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43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45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47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491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50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52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543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91" name=""/>
            <p:cNvSpPr/>
            <p:nvPr/>
          </p:nvSpPr>
          <p:spPr>
            <a:xfrm flipV="1">
              <a:off x="6181560" y="2900520"/>
              <a:ext cx="379440" cy="209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 flipV="1">
              <a:off x="6183360" y="29376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V="1">
              <a:off x="6183360" y="298044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V="1">
              <a:off x="6183360" y="302616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6183360" y="30690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96" name=""/>
            <p:cNvGrpSpPr/>
            <p:nvPr/>
          </p:nvGrpSpPr>
          <p:grpSpPr>
            <a:xfrm>
              <a:off x="6202440" y="2902680"/>
              <a:ext cx="341280" cy="209160"/>
              <a:chOff x="6202440" y="2902680"/>
              <a:chExt cx="341280" cy="209160"/>
            </a:xfrm>
          </p:grpSpPr>
          <p:sp>
            <p:nvSpPr>
              <p:cNvPr id="3397" name=""/>
              <p:cNvSpPr/>
              <p:nvPr/>
            </p:nvSpPr>
            <p:spPr>
              <a:xfrm>
                <a:off x="620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6221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2370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25608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273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29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630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63288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6347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36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38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39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41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43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45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47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491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50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52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543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7" name=""/>
            <p:cNvSpPr/>
            <p:nvPr/>
          </p:nvSpPr>
          <p:spPr>
            <a:xfrm flipV="1">
              <a:off x="6181560" y="3246120"/>
              <a:ext cx="379440" cy="21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V="1">
              <a:off x="6183360" y="3283920"/>
              <a:ext cx="374760" cy="10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V="1">
              <a:off x="6183360" y="332748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flipV="1">
              <a:off x="6183360" y="33717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V="1">
              <a:off x="6183360" y="3413880"/>
              <a:ext cx="37476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2" name=""/>
            <p:cNvGrpSpPr/>
            <p:nvPr/>
          </p:nvGrpSpPr>
          <p:grpSpPr>
            <a:xfrm>
              <a:off x="6202440" y="3248280"/>
              <a:ext cx="341280" cy="210960"/>
              <a:chOff x="6202440" y="3248280"/>
              <a:chExt cx="341280" cy="210960"/>
            </a:xfrm>
          </p:grpSpPr>
          <p:sp>
            <p:nvSpPr>
              <p:cNvPr id="3423" name=""/>
              <p:cNvSpPr/>
              <p:nvPr/>
            </p:nvSpPr>
            <p:spPr>
              <a:xfrm>
                <a:off x="620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221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2370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25608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273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29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30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3288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347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36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38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39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41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43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45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47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491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50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52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543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43" name=""/>
            <p:cNvSpPr/>
            <p:nvPr/>
          </p:nvSpPr>
          <p:spPr>
            <a:xfrm flipV="1">
              <a:off x="6040440" y="2796480"/>
              <a:ext cx="96840" cy="216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040440" y="2796480"/>
              <a:ext cx="98280" cy="2484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6040440" y="2839320"/>
              <a:ext cx="139680" cy="29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040440" y="2839320"/>
              <a:ext cx="142920" cy="34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7" name=""/>
          <p:cNvSpPr/>
          <p:nvPr/>
        </p:nvSpPr>
        <p:spPr>
          <a:xfrm>
            <a:off x="561492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8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3449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3476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96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01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3502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22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7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3528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8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2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3990960" y="4768920"/>
            <a:ext cx="1780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 (puhverdam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304920" y="1752480"/>
            <a:ext cx="86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eale eelnevat päringut te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üüd ja jätab meel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com nimeserverite nimed ja IP aadress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nimeserverite nimed ja IP aadress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ww.nominum.com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P aadr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6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3557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3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pilt sama, mis eelmisel slaid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simused, mis tahavad vast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arvuti Y on traadiga ühenduses mitme eri arvutiga (X, Z, U, ...) siis kuidas saata nimelt soovitud arvutisse (meie näites X) oma inf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X ja Y pole otse ühenduses vaid teiste kaudu, siis kuidas jõuavad sõnumid ühest arvutist tei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info hulk on väga suur (näiteks 700 MB), kas saaks seda üksikute väiksemate tükkidena saat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das kontrollida, kas tükid jõudsid pära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s teha, kui mõni tükk kaduma läheb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das arvuti X tükid õieti kokku oskab pann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87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eth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92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438280" y="2971800"/>
            <a:ext cx="295560" cy="299880"/>
            <a:chOff x="2438280" y="2971800"/>
            <a:chExt cx="295560" cy="299880"/>
          </a:xfrm>
        </p:grpSpPr>
        <p:sp>
          <p:nvSpPr>
            <p:cNvPr id="95" name=""/>
            <p:cNvSpPr/>
            <p:nvPr/>
          </p:nvSpPr>
          <p:spPr>
            <a:xfrm>
              <a:off x="2438280" y="29718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29718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62200" y="29718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438280" y="1905120"/>
            <a:ext cx="295560" cy="299880"/>
            <a:chOff x="2438280" y="1905120"/>
            <a:chExt cx="295560" cy="299880"/>
          </a:xfrm>
        </p:grpSpPr>
        <p:sp>
          <p:nvSpPr>
            <p:cNvPr id="99" name=""/>
            <p:cNvSpPr/>
            <p:nvPr/>
          </p:nvSpPr>
          <p:spPr>
            <a:xfrm>
              <a:off x="2438280" y="190512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8280" y="1905120"/>
              <a:ext cx="29556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62200" y="190512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038480" y="2362320"/>
            <a:ext cx="295560" cy="299880"/>
            <a:chOff x="4038480" y="2362320"/>
            <a:chExt cx="295560" cy="299880"/>
          </a:xfrm>
        </p:grpSpPr>
        <p:sp>
          <p:nvSpPr>
            <p:cNvPr id="103" name=""/>
            <p:cNvSpPr/>
            <p:nvPr/>
          </p:nvSpPr>
          <p:spPr>
            <a:xfrm>
              <a:off x="4038480" y="2362320"/>
              <a:ext cx="295560" cy="299880"/>
            </a:xfrm>
            <a:prstGeom prst="pie">
              <a:avLst/>
            </a:prstGeom>
            <a:solidFill>
              <a:srgbClr val="ff66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8480" y="2362320"/>
              <a:ext cx="295560" cy="71280"/>
            </a:xfrm>
            <a:prstGeom prst="pie">
              <a:avLst/>
            </a:prstGeom>
            <a:solidFill>
              <a:srgbClr val="ff6f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2400" y="2362320"/>
              <a:ext cx="69840" cy="299880"/>
            </a:xfrm>
            <a:prstGeom prst="pie">
              <a:avLst/>
            </a:prstGeom>
            <a:solidFill>
              <a:srgbClr val="db57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15000" y="2895480"/>
            <a:ext cx="295200" cy="300240"/>
            <a:chOff x="5715000" y="2895480"/>
            <a:chExt cx="295200" cy="300240"/>
          </a:xfrm>
        </p:grpSpPr>
        <p:sp>
          <p:nvSpPr>
            <p:cNvPr id="107" name=""/>
            <p:cNvSpPr/>
            <p:nvPr/>
          </p:nvSpPr>
          <p:spPr>
            <a:xfrm>
              <a:off x="5715000" y="2895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15000" y="2895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38920" y="2895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962520" y="1295280"/>
            <a:ext cx="295200" cy="300240"/>
            <a:chOff x="3962520" y="1295280"/>
            <a:chExt cx="295200" cy="300240"/>
          </a:xfrm>
        </p:grpSpPr>
        <p:sp>
          <p:nvSpPr>
            <p:cNvPr id="111" name=""/>
            <p:cNvSpPr/>
            <p:nvPr/>
          </p:nvSpPr>
          <p:spPr>
            <a:xfrm>
              <a:off x="3962520" y="1295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2520" y="1295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86080" y="1295280"/>
              <a:ext cx="716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038480" y="3505320"/>
            <a:ext cx="295560" cy="299880"/>
            <a:chOff x="4038480" y="3505320"/>
            <a:chExt cx="295560" cy="299880"/>
          </a:xfrm>
        </p:grpSpPr>
        <p:sp>
          <p:nvSpPr>
            <p:cNvPr id="115" name=""/>
            <p:cNvSpPr/>
            <p:nvPr/>
          </p:nvSpPr>
          <p:spPr>
            <a:xfrm>
              <a:off x="4038480" y="350532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38480" y="3505320"/>
              <a:ext cx="29556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62400" y="350532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119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V="1">
            <a:off x="2743200" y="2505240"/>
            <a:ext cx="1295280" cy="552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172200" y="1712520"/>
            <a:ext cx="685800" cy="49320"/>
          </a:xfrm>
          <a:prstGeom prst="line">
            <a:avLst/>
          </a:prstGeom>
          <a:ln cap="sq"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523880"/>
            <a:ext cx="209088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th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C a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8 bitine ar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1:23:45:67:89: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343400" y="1895040"/>
            <a:ext cx="1523880" cy="476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2657160"/>
            <a:ext cx="144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334040" y="2505240"/>
            <a:ext cx="1466640" cy="552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733480" y="2047680"/>
            <a:ext cx="131436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191120" y="1590480"/>
            <a:ext cx="1440" cy="780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666880"/>
            <a:ext cx="1676520" cy="1905120"/>
          </a:xfrm>
          <a:prstGeom prst="line">
            <a:avLst/>
          </a:prstGeom>
          <a:ln cap="sq"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4572000"/>
            <a:ext cx="281952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witch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filter, mis õpib võrguliiklust kuulates millise traadi otsas on mingi masin ja saadab edasi AINULT sellele, kellele teade kuulu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saadab arvutile X teksti, siis ta saadab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es 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ÕIGI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rvutitele 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sed ignoreeriv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86280" y="25560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51560" y="12952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5680" y="4772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95D2C-11A9-426A-A552-FA053B49F9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81080" y="2743200"/>
          <a:ext cx="5400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5400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Base5 ja 10Base2 Ethernet kasutas ühtset jagatud  siini (eetr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Etherneti algne siini arhitektu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B1545-FE3F-4C21-A6A9-8EC55250C55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admed on ühendatud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witch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ig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55840" y="2514600"/>
          <a:ext cx="540216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2514600"/>
                    <a:ext cx="540216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352680" y="457200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änapäeval kasutatakse täht-arhitektu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9-10-29T08:40:57Z</dcterms:modified>
  <cp:revision>51</cp:revision>
  <dc:subject/>
  <dc:title>PowerPoint Presentation</dc:title>
</cp:coreProperties>
</file>